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8.png" ContentType="image/png"/>
  <Override PartName="/ppt/media/image17.png" ContentType="image/png"/>
  <Override PartName="/ppt/media/explode.wav" ContentType="audio/x-wav"/>
  <Override PartName="/ppt/media/image5.jpeg" ContentType="image/jpeg"/>
  <Override PartName="/ppt/media/image15.png" ContentType="image/png"/>
  <Override PartName="/ppt/media/laser.wav" ContentType="audio/x-wav"/>
  <Override PartName="/ppt/media/warning.wav" ContentType="audio/x-wav"/>
  <Override PartName="/ppt/media/image14.png" ContentType="image/png"/>
  <Override PartName="/ppt/media/image13.png" ContentType="image/png"/>
  <Override PartName="/ppt/media/hammer.wav" ContentType="audio/x-wav"/>
  <Override PartName="/ppt/media/image20.png" ContentType="image/png"/>
  <Override PartName="/ppt/media/image7.gif" ContentType="image/gif"/>
  <Override PartName="/ppt/media/image8.png" ContentType="image/png"/>
  <Override PartName="/ppt/media/image9.png" ContentType="image/png"/>
  <Override PartName="/ppt/media/image22.jpeg" ContentType="image/jpeg"/>
  <Override PartName="/ppt/media/image21.png" ContentType="image/png"/>
  <Override PartName="/ppt/media/image6.png" ContentType="image/png"/>
  <Override PartName="/ppt/media/image23.png" ContentType="image/png"/>
  <Override PartName="/ppt/media/image4.jpeg" ContentType="image/jpeg"/>
  <Override PartName="/ppt/media/sonar.wav" ContentType="audio/x-wav"/>
  <Override PartName="/ppt/media/image3.png" ContentType="image/png"/>
  <Override PartName="/ppt/media/geiger.wav" ContentType="audio/x-wav"/>
  <Override PartName="/ppt/media/image19.png" ContentType="image/png"/>
  <Override PartName="/ppt/media/space%20takeoff.wav" ContentType="audio/x-wav"/>
  <Override PartName="/ppt/media/image1.png" ContentType="image/png"/>
  <Override PartName="/ppt/media/image10.png" ContentType="image/png"/>
  <Override PartName="/ppt/media/image24.png" ContentType="image/png"/>
  <Override PartName="/ppt/media/image11.jpeg" ContentType="image/jpeg"/>
  <Override PartName="/ppt/media/image12.png" ContentType="image/png"/>
  <Override PartName="/ppt/media/image2.wmf" ContentType="image/x-wmf"/>
  <Override PartName="/ppt/media/chimes.wav" ContentType="audio/x-wav"/>
  <Override PartName="/ppt/media/image16.png" ContentType="image/png"/>
  <Override PartName="/ppt/media/camera.wav" ContentType="audio/x-wav"/>
  <Override PartName="/ppt/media/boing.wav" ContentType="audio/x-wav"/>
  <Override PartName="/ppt/media/whoosh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BE77EB-5E60-4354-A1D1-A899E75152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4C8571-7D5C-458C-A097-062E011945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3CD229-7F38-482A-BCD1-DFF38C40E3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6231BD-692D-4DD8-B626-1135546B648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D03457-6C07-4EFD-B074-AF76F1F153D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654B24-AAFF-4B92-8272-60A298E300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60E075-3205-457B-BC26-1BA47C1EE6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0B4BB9-3DEF-4558-B88B-83B2807EA3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B1D262-D048-4419-9734-7795403C77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45C2A4-22BC-4A90-8262-FEDA091950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23B115-0743-4828-9CD0-BF3A417F41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C86A50-4E4B-476B-B1FD-52014C3D67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4560" y="63813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0000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Arial"/>
              </a:rPr>
              <a:t>© J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E2C59-9974-4F96-B674-16E4B2529D4A}" type="slidenum">
              <a:rPr b="1" lang="en-US" sz="14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image" Target="../media/image3.pn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png"/><Relationship Id="rId10" Type="http://schemas.openxmlformats.org/officeDocument/2006/relationships/audio" Target="../media/sonar.wav"/><Relationship Id="rId11" Type="http://schemas.openxmlformats.org/officeDocument/2006/relationships/audio" Target="../media/sonar.wav"/><Relationship Id="rId12" Type="http://schemas.openxmlformats.org/officeDocument/2006/relationships/audio" Target="../media/sonar.wav"/><Relationship Id="rId13" Type="http://schemas.openxmlformats.org/officeDocument/2006/relationships/audio" Target="../media/geiger.wav"/><Relationship Id="rId14" Type="http://schemas.openxmlformats.org/officeDocument/2006/relationships/audio" Target="../media/warning.wav"/><Relationship Id="rId1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audio" Target="../media/sonar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audio" Target="../media/sonar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.png"/><Relationship Id="rId6" Type="http://schemas.openxmlformats.org/officeDocument/2006/relationships/audio" Target="../media/explode.wav"/><Relationship Id="rId7" Type="http://schemas.openxmlformats.org/officeDocument/2006/relationships/audio" Target="../media/explode.wav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png"/><Relationship Id="rId5" Type="http://schemas.openxmlformats.org/officeDocument/2006/relationships/audio" Target="../media/sonar.wav"/><Relationship Id="rId6" Type="http://schemas.openxmlformats.org/officeDocument/2006/relationships/audio" Target="../media/explode.wav"/><Relationship Id="rId7" Type="http://schemas.openxmlformats.org/officeDocument/2006/relationships/audio" Target="../media/boing.wav"/><Relationship Id="rId8" Type="http://schemas.openxmlformats.org/officeDocument/2006/relationships/audio" Target="../media/hammer.wav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audio" Target="../media/boing.wav"/><Relationship Id="rId4" Type="http://schemas.openxmlformats.org/officeDocument/2006/relationships/audio" Target="../media/sonar.wav"/><Relationship Id="rId5" Type="http://schemas.openxmlformats.org/officeDocument/2006/relationships/audio" Target="../media/warning.wav"/><Relationship Id="rId6" Type="http://schemas.openxmlformats.org/officeDocument/2006/relationships/audio" Target="../media/warning.wav"/><Relationship Id="rId7" Type="http://schemas.openxmlformats.org/officeDocument/2006/relationships/audio" Target="../media/warning.wav"/><Relationship Id="rId8" Type="http://schemas.openxmlformats.org/officeDocument/2006/relationships/audio" Target="../media/warning.wav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audio" Target="../media/hammer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gif"/><Relationship Id="rId3" Type="http://schemas.openxmlformats.org/officeDocument/2006/relationships/image" Target="../media/image8.png"/><Relationship Id="rId4" Type="http://schemas.openxmlformats.org/officeDocument/2006/relationships/audio" Target="../media/hammer.wav"/><Relationship Id="rId5" Type="http://schemas.openxmlformats.org/officeDocument/2006/relationships/audio" Target="../media/geiger.wav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image" Target="../media/image12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13.png"/><Relationship Id="rId9" Type="http://schemas.openxmlformats.org/officeDocument/2006/relationships/audio" Target="../media/whoosh.wav"/><Relationship Id="rId10" Type="http://schemas.openxmlformats.org/officeDocument/2006/relationships/audio" Target="../media/warning.wav"/><Relationship Id="rId11" Type="http://schemas.openxmlformats.org/officeDocument/2006/relationships/audio" Target="../media/hammer.wav"/><Relationship Id="rId12" Type="http://schemas.openxmlformats.org/officeDocument/2006/relationships/audio" Target="../media/warning.wav"/><Relationship Id="rId13" Type="http://schemas.openxmlformats.org/officeDocument/2006/relationships/audio" Target="../media/warning.wav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audio" Target="../media/hammer.wav"/><Relationship Id="rId4" Type="http://schemas.openxmlformats.org/officeDocument/2006/relationships/audio" Target="../media/geiger.wav"/><Relationship Id="rId5" Type="http://schemas.openxmlformats.org/officeDocument/2006/relationships/audio" Target="../media/chimes.wav"/><Relationship Id="rId6" Type="http://schemas.openxmlformats.org/officeDocument/2006/relationships/audio" Target="../media/geiger.wav"/><Relationship Id="rId7" Type="http://schemas.openxmlformats.org/officeDocument/2006/relationships/audio" Target="../media/chimes.wav"/><Relationship Id="rId8" Type="http://schemas.openxmlformats.org/officeDocument/2006/relationships/audio" Target="../media/camera.wav"/><Relationship Id="rId9" Type="http://schemas.openxmlformats.org/officeDocument/2006/relationships/audio" Target="../media/sonar.wav"/><Relationship Id="rId10" Type="http://schemas.openxmlformats.org/officeDocument/2006/relationships/audio" Target="../media/boing.wav"/><Relationship Id="rId11" Type="http://schemas.openxmlformats.org/officeDocument/2006/relationships/audio" Target="../media/warning.wav"/><Relationship Id="rId12" Type="http://schemas.openxmlformats.org/officeDocument/2006/relationships/audio" Target="../media/warning.wav"/><Relationship Id="rId13" Type="http://schemas.openxmlformats.org/officeDocument/2006/relationships/audio" Target="../media/warning.wav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png"/><Relationship Id="rId5" Type="http://schemas.openxmlformats.org/officeDocument/2006/relationships/audio" Target="../media/hammer.wav"/><Relationship Id="rId6" Type="http://schemas.openxmlformats.org/officeDocument/2006/relationships/audio" Target="../media/sonar.wav"/><Relationship Id="rId7" Type="http://schemas.openxmlformats.org/officeDocument/2006/relationships/audio" Target="../media/hammer.wav"/><Relationship Id="rId8" Type="http://schemas.openxmlformats.org/officeDocument/2006/relationships/audio" Target="../media/hammer.wav"/><Relationship Id="rId9" Type="http://schemas.openxmlformats.org/officeDocument/2006/relationships/audio" Target="../media/explode.wav"/><Relationship Id="rId10" Type="http://schemas.openxmlformats.org/officeDocument/2006/relationships/audio" Target="../media/hammer.wav"/><Relationship Id="rId11" Type="http://schemas.openxmlformats.org/officeDocument/2006/relationships/audio" Target="../media/hammer.wav"/><Relationship Id="rId12" Type="http://schemas.openxmlformats.org/officeDocument/2006/relationships/audio" Target="../media/hammer.wav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audio" Target="../media/space%20takeoff.wav"/><Relationship Id="rId4" Type="http://schemas.openxmlformats.org/officeDocument/2006/relationships/audio" Target="../media/boing.wav"/><Relationship Id="rId5" Type="http://schemas.openxmlformats.org/officeDocument/2006/relationships/audio" Target="../media/boing.wav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audio" Target="../media/sonar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" name=""/>
          <p:cNvGraphicFramePr/>
          <p:nvPr/>
        </p:nvGraphicFramePr>
        <p:xfrm>
          <a:off x="-828720" y="4365720"/>
          <a:ext cx="576360" cy="52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828720" y="4365720"/>
                    <a:ext cx="57636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" name=""/>
          <p:cNvSpPr/>
          <p:nvPr/>
        </p:nvSpPr>
        <p:spPr>
          <a:xfrm>
            <a:off x="3708360" y="2205000"/>
            <a:ext cx="1152720" cy="269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0066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ff0066"/>
                </a:solidFill>
                <a:latin typeface="Symbol"/>
                <a:ea typeface="Symbol"/>
              </a:rPr>
              <a:t>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66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ff0066"/>
                </a:solidFill>
                <a:latin typeface="Comic Sans MS"/>
              </a:rPr>
              <a:t>alph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-757080" y="2637000"/>
            <a:ext cx="43308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e</a:t>
            </a:r>
            <a:r>
              <a:rPr b="1" lang="en-GB" sz="2400" spc="-1" strike="noStrike" baseline="30000">
                <a:solidFill>
                  <a:srgbClr val="333399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51280" y="2276640"/>
            <a:ext cx="1150920" cy="19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00ccff"/>
                </a:solidFill>
                <a:latin typeface="Symbol"/>
                <a:ea typeface="Symbol"/>
              </a:rPr>
              <a:t>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ff"/>
                </a:solidFill>
                <a:latin typeface="Comic Sans MS"/>
              </a:rPr>
              <a:t>be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9396360" y="476280"/>
          <a:ext cx="647640" cy="492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396360" y="476280"/>
                    <a:ext cx="647640" cy="4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3851280" y="2133720"/>
            <a:ext cx="1368360" cy="22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00ff00"/>
                </a:solidFill>
                <a:latin typeface="Symbol"/>
                <a:ea typeface="Symbol"/>
              </a:rPr>
              <a:t>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ff00"/>
                </a:solidFill>
                <a:latin typeface="Comic Sans MS"/>
              </a:rPr>
              <a:t>gam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1116000" y="620640"/>
            <a:ext cx="7056360" cy="6491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203640" y="5373720"/>
            <a:ext cx="187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843280" y="5805360"/>
            <a:ext cx="136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908000" y="620640"/>
            <a:ext cx="5113440" cy="4968720"/>
            <a:chOff x="1908000" y="620640"/>
            <a:chExt cx="5113440" cy="4968720"/>
          </a:xfrm>
        </p:grpSpPr>
        <p:grpSp>
          <p:nvGrpSpPr>
            <p:cNvPr id="52" name=""/>
            <p:cNvGrpSpPr/>
            <p:nvPr/>
          </p:nvGrpSpPr>
          <p:grpSpPr>
            <a:xfrm>
              <a:off x="1908000" y="620640"/>
              <a:ext cx="5113440" cy="4968720"/>
              <a:chOff x="1908000" y="620640"/>
              <a:chExt cx="5113440" cy="4968720"/>
            </a:xfrm>
          </p:grpSpPr>
          <p:pic>
            <p:nvPicPr>
              <p:cNvPr id="53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2124000" y="765000"/>
                <a:ext cx="4537080" cy="4680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" name=""/>
              <p:cNvSpPr/>
              <p:nvPr/>
            </p:nvSpPr>
            <p:spPr>
              <a:xfrm>
                <a:off x="1908000" y="620640"/>
                <a:ext cx="4897440" cy="2858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2124000" y="5302080"/>
                <a:ext cx="4608360" cy="2872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908000" y="907920"/>
                <a:ext cx="434880" cy="4537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6427800" y="907920"/>
                <a:ext cx="593640" cy="44658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2700360" y="4653000"/>
              <a:ext cx="16048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Marie Curi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1979640" y="260280"/>
            <a:ext cx="4968720" cy="5904000"/>
            <a:chOff x="1979640" y="260280"/>
            <a:chExt cx="4968720" cy="5904000"/>
          </a:xfrm>
        </p:grpSpPr>
        <p:pic>
          <p:nvPicPr>
            <p:cNvPr id="60" name="" descr=""/>
            <p:cNvPicPr/>
            <p:nvPr/>
          </p:nvPicPr>
          <p:blipFill>
            <a:blip r:embed="rId7"/>
            <a:stretch/>
          </p:blipFill>
          <p:spPr>
            <a:xfrm>
              <a:off x="1979640" y="260280"/>
              <a:ext cx="4968720" cy="590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2266920" y="5732280"/>
              <a:ext cx="45367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ff0000"/>
                  </a:solidFill>
                  <a:latin typeface="Arial"/>
                </a:rPr>
                <a:t>Antoine-Henri Becquerel (1852 – 1908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62" name=""/>
          <p:cNvGraphicFramePr/>
          <p:nvPr/>
        </p:nvGraphicFramePr>
        <p:xfrm>
          <a:off x="2916360" y="1268280"/>
          <a:ext cx="2808000" cy="27403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6360" y="1268280"/>
                    <a:ext cx="2808000" cy="274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>
            <a:off x="0" y="4572000"/>
            <a:ext cx="86756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6600" spc="-1" strike="noStrike">
                <a:solidFill>
                  <a:srgbClr val="ff0000"/>
                </a:solidFill>
                <a:latin typeface="Verdana"/>
              </a:rPr>
              <a:t>α</a:t>
            </a:r>
            <a:r>
              <a:rPr b="0" lang="en-GB" sz="6600" spc="-1" strike="noStrike">
                <a:solidFill>
                  <a:srgbClr val="ff0000"/>
                </a:solidFill>
                <a:latin typeface="Verdana"/>
              </a:rPr>
              <a:t>,  </a:t>
            </a:r>
            <a:r>
              <a:rPr b="0" lang="el-GR" sz="6600" spc="-1" strike="noStrike">
                <a:solidFill>
                  <a:srgbClr val="ff0000"/>
                </a:solidFill>
                <a:latin typeface="Symbol"/>
                <a:ea typeface="Symbol"/>
              </a:rPr>
              <a:t></a:t>
            </a:r>
            <a:r>
              <a:rPr b="0" lang="en-GB" sz="6600" spc="-1" strike="noStrike">
                <a:solidFill>
                  <a:srgbClr val="ff0000"/>
                </a:solidFill>
                <a:latin typeface="Verdana"/>
              </a:rPr>
              <a:t>  and  </a:t>
            </a:r>
            <a:r>
              <a:rPr b="0" lang="en-GB" sz="6600" spc="-1" strike="noStrike">
                <a:solidFill>
                  <a:srgbClr val="ff0000"/>
                </a:solidFill>
                <a:latin typeface="Symbol"/>
                <a:ea typeface="Symbol"/>
              </a:rPr>
              <a:t></a:t>
            </a:r>
            <a:r>
              <a:rPr b="0" lang="en-GB" sz="6600" spc="-1" strike="noStrike">
                <a:solidFill>
                  <a:srgbClr val="ff0000"/>
                </a:solidFill>
                <a:latin typeface="Verdana"/>
              </a:rPr>
              <a:t> RADIATIO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P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7D51D6-4622-480E-879D-CF346FACEAF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sonar.wav"/>
                                        </p:tgtEl>
                                      </p:cMediaNode>
                                    </p:audio>
                                    <p:animMotion origin="layout" path="M -2.22222E-006 1.48148E-006 L 1.11025 -0.45833 E">
                                      <p:cBhvr>
                                        <p:cTn id="6" dur="5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0"/>
                            </p:stCondLst>
                            <p:childTnLst>
                              <p:par>
                                <p:cTn id="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6000"/>
                            </p:stCondLst>
                            <p:childTnLst>
                              <p:par>
                                <p:cTn id="15" nodeType="after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sonar.wav"/>
                                        </p:tgtEl>
                                      </p:cMediaNode>
                                    </p:audio>
                                    <p:animMotion origin="layout" path="M -2.22222E-006 1.85185E-006 L 1.18108 -0.00509 E">
                                      <p:cBhvr>
                                        <p:cTn id="16" dur="5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7" dur="1" fill="hold">
                                    <p:stCondLst>
                                      <p:cond delay="1500"/>
                                    </p:stCondLst>
                                  </p:cTn>
                                  <p:tgtEl>
                                    <p:spTgt spid="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2500"/>
                            </p:stCondLst>
                            <p:childTnLst>
                              <p:par>
                                <p:cTn id="1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26" nodeType="after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sonar.wav"/>
                                        </p:tgtEl>
                                      </p:cMediaNode>
                                    </p:audio>
                                    <p:animMotion origin="layout" path="M -0.03542 0.03774 L -1.15365 0.49977 E">
                                      <p:cBhvr>
                                        <p:cTn id="27" dur="3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28" dur="1" fill="hold">
                                    <p:stCondLst>
                                      <p:cond delay="1500"/>
                                    </p:stCondLst>
                                  </p:cTn>
                                  <p:tgtEl>
                                    <p:spTgt spid="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8000"/>
                            </p:stCondLst>
                            <p:childTnLst>
                              <p:par>
                                <p:cTn id="30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0000"/>
                            </p:stCondLst>
                            <p:childTnLst>
                              <p:par>
                                <p:cTn id="37" nodeType="afterEffect" fill="hold" presetClass="entr" presetID="4" presetSubtype="32">
                                  <p:stCondLst>
                                    <p:cond delay="1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geig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0" dur="1" fill="hold">
                                    <p:stCondLst>
                                      <p:cond delay="1500"/>
                                    </p:stCondLst>
                                  </p:cTn>
                                  <p:tgtEl>
                                    <p:spTgt spid="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2000"/>
                            </p:stCondLst>
                            <p:childTnLst>
                              <p:par>
                                <p:cTn id="42" nodeType="afterEffect" fill="hold" presetClass="entr" presetID="8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4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5" dur="1" fill="hold">
                                    <p:stCondLst>
                                      <p:cond delay="2000"/>
                                    </p:stCondLst>
                                  </p:cTn>
                                  <p:tgtEl>
                                    <p:spTgt spid="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6000"/>
                            </p:stCondLst>
                            <p:childTnLst>
                              <p:par>
                                <p:cTn id="47" nodeType="afterEffect" fill="hold" presetClass="entr" presetID="8" presetSubtype="3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0" dur="1" fill="hold">
                                    <p:stCondLst>
                                      <p:cond delay="1500"/>
                                    </p:stCondLst>
                                  </p:cTn>
                                  <p:tgtEl>
                                    <p:spTgt spid="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9500"/>
                            </p:stCondLst>
                            <p:childTnLst>
                              <p:par>
                                <p:cTn id="52" nodeType="afterEffect" fill="hold" presetClass="entr" presetID="8" presetSubtype="32">
                                  <p:stCondLst>
                                    <p:cond delay="1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warn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4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5" dur="1" fill="hold">
                                    <p:stCondLst>
                                      <p:cond delay="1500"/>
                                    </p:stCondLst>
                                  </p:cTn>
                                  <p:tgtEl>
                                    <p:spTgt spid="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32000"/>
                            </p:stCondLst>
                            <p:childTnLst>
                              <p:par>
                                <p:cTn id="57" nodeType="afterEffect" fill="hold" presetClass="entr" presetID="1">
                                  <p:stCondLst>
                                    <p:cond delay="1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path" presetID="24">
                                  <p:stCondLst>
                                    <p:cond delay="3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C 0.023 0.00133 0.042 0.012 0.052 0.028 L 0.075 0.06533 C 0.08 0.07333 0.088 0.07733 0.098 0.07733 C 0.112 0.07733 0.124 0.06667 0.125 0.05067 C 0.124 0.03733 0.112 0.02533 0.098 0.02533 C 0.088 0.02533 0.08 0.03067 0.075 0.03733 L 0.052 0.07467 C 0.042 0.09067 0.023 0.10133 0 0.10267 C -0.023 0.10133 -0.042 0.09067 -0.052 0.07467 L -0.075 0.03733 C -0.08 0.03067 -0.088 0.02533 -0.098 0.02533 C -0.112 0.02533 -0.124 0.03733 -0.125 0.05067 C -0.124 0.06667 -0.112 0.07733 -0.098 0.07733 C -0.088 0.07733 -0.08 0.07333 -0.075 0.06533 L -0.052 0.028 C -0.042 0.012 -0.023 0.00133 0 0 Z">
                                      <p:cBhvr>
                                        <p:cTn id="60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" name=""/>
          <p:cNvGrpSpPr/>
          <p:nvPr/>
        </p:nvGrpSpPr>
        <p:grpSpPr>
          <a:xfrm>
            <a:off x="-3165840" y="-222480"/>
            <a:ext cx="10500480" cy="7911720"/>
            <a:chOff x="-3165840" y="-222480"/>
            <a:chExt cx="10500480" cy="7911720"/>
          </a:xfrm>
        </p:grpSpPr>
        <p:grpSp>
          <p:nvGrpSpPr>
            <p:cNvPr id="224" name=""/>
            <p:cNvGrpSpPr/>
            <p:nvPr/>
          </p:nvGrpSpPr>
          <p:grpSpPr>
            <a:xfrm>
              <a:off x="-3165840" y="-222480"/>
              <a:ext cx="10500480" cy="7911720"/>
              <a:chOff x="-3165840" y="-222480"/>
              <a:chExt cx="10500480" cy="7911720"/>
            </a:xfrm>
          </p:grpSpPr>
          <p:grpSp>
            <p:nvGrpSpPr>
              <p:cNvPr id="225" name=""/>
              <p:cNvGrpSpPr/>
              <p:nvPr/>
            </p:nvGrpSpPr>
            <p:grpSpPr>
              <a:xfrm>
                <a:off x="1863360" y="1268280"/>
                <a:ext cx="5471280" cy="4083840"/>
                <a:chOff x="1863360" y="1268280"/>
                <a:chExt cx="5471280" cy="4083840"/>
              </a:xfrm>
            </p:grpSpPr>
            <p:grpSp>
              <p:nvGrpSpPr>
                <p:cNvPr id="226" name=""/>
                <p:cNvGrpSpPr/>
                <p:nvPr/>
              </p:nvGrpSpPr>
              <p:grpSpPr>
                <a:xfrm>
                  <a:off x="1863360" y="1268280"/>
                  <a:ext cx="5471280" cy="4083840"/>
                  <a:chOff x="1863360" y="1268280"/>
                  <a:chExt cx="5471280" cy="4083840"/>
                </a:xfrm>
              </p:grpSpPr>
              <p:grpSp>
                <p:nvGrpSpPr>
                  <p:cNvPr id="227" name=""/>
                  <p:cNvGrpSpPr/>
                  <p:nvPr/>
                </p:nvGrpSpPr>
                <p:grpSpPr>
                  <a:xfrm>
                    <a:off x="1863360" y="1268280"/>
                    <a:ext cx="5471280" cy="4083840"/>
                    <a:chOff x="1863360" y="1268280"/>
                    <a:chExt cx="5471280" cy="4083840"/>
                  </a:xfrm>
                </p:grpSpPr>
                <p:graphicFrame>
                  <p:nvGraphicFramePr>
                    <p:cNvPr id="228" name=""/>
                    <p:cNvGraphicFramePr/>
                    <p:nvPr/>
                  </p:nvGraphicFramePr>
                  <p:xfrm>
                    <a:off x="1863360" y="1268280"/>
                    <a:ext cx="5471280" cy="4083840"/>
                  </p:xfrm>
                  <a:graphic>
                    <a:graphicData uri="http://schemas.openxmlformats.org/presentationml/2006/ole">
                      <p:oleObj r:id="rId1" spid="">
                        <p:embed/>
                        <p:pic>
                          <p:nvPicPr>
                            <p:cNvPr id="229" name="" descr=""/>
                            <p:cNvPicPr/>
                            <p:nvPr/>
                          </p:nvPicPr>
                          <p:blipFill>
                            <a:blip r:embed="rId2"/>
                            <a:stretch/>
                          </p:blipFill>
                          <p:spPr>
                            <a:xfrm>
                              <a:off x="1863360" y="1268280"/>
                              <a:ext cx="5471280" cy="4083840"/>
                            </a:xfrm>
                            <a:prstGeom prst="rect">
                              <a:avLst/>
                            </a:prstGeom>
                            <a:ln w="0">
                              <a:noFill/>
                            </a:ln>
                          </p:spPr>
                        </p:pic>
                      </p:oleObj>
                    </a:graphicData>
                  </a:graphic>
                </p:graphicFrame>
                <p:sp>
                  <p:nvSpPr>
                    <p:cNvPr id="230" name=""/>
                    <p:cNvSpPr/>
                    <p:nvPr/>
                  </p:nvSpPr>
                  <p:spPr>
                    <a:xfrm>
                      <a:off x="4404600" y="4986720"/>
                      <a:ext cx="21214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proton number 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31" name=""/>
                  <p:cNvSpPr/>
                  <p:nvPr/>
                </p:nvSpPr>
                <p:spPr>
                  <a:xfrm rot="16200000">
                    <a:off x="857880" y="3069000"/>
                    <a:ext cx="302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400" spc="-1" strike="noStrike">
                        <a:solidFill>
                          <a:srgbClr val="0000ff"/>
                        </a:solidFill>
                        <a:latin typeface="Arial"/>
                      </a:rPr>
                      <a:t>Neutron  number N = A-Z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32" name=""/>
                  <p:cNvGrpSpPr/>
                  <p:nvPr/>
                </p:nvGrpSpPr>
                <p:grpSpPr>
                  <a:xfrm>
                    <a:off x="3083400" y="1358640"/>
                    <a:ext cx="3638160" cy="3321720"/>
                    <a:chOff x="3083400" y="1358640"/>
                    <a:chExt cx="3638160" cy="3321720"/>
                  </a:xfrm>
                </p:grpSpPr>
                <p:sp>
                  <p:nvSpPr>
                    <p:cNvPr id="233" name=""/>
                    <p:cNvSpPr/>
                    <p:nvPr/>
                  </p:nvSpPr>
                  <p:spPr>
                    <a:xfrm flipV="1">
                      <a:off x="3083400" y="1682640"/>
                      <a:ext cx="2962080" cy="2997720"/>
                    </a:xfrm>
                    <a:prstGeom prst="line">
                      <a:avLst/>
                    </a:prstGeom>
                    <a:ln w="57240">
                      <a:solidFill>
                        <a:srgbClr val="00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4" name=""/>
                    <p:cNvSpPr/>
                    <p:nvPr/>
                  </p:nvSpPr>
                  <p:spPr>
                    <a:xfrm>
                      <a:off x="6014160" y="1358640"/>
                      <a:ext cx="70740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N=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35" name=""/>
                  <p:cNvSpPr/>
                  <p:nvPr/>
                </p:nvSpPr>
                <p:spPr>
                  <a:xfrm>
                    <a:off x="3803400" y="4817520"/>
                    <a:ext cx="53352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400" spc="-1" strike="noStrike">
                        <a:solidFill>
                          <a:srgbClr val="ff0000"/>
                        </a:solidFill>
                        <a:latin typeface="Arial"/>
                      </a:rPr>
                      <a:t>40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" name=""/>
                  <p:cNvSpPr/>
                  <p:nvPr/>
                </p:nvSpPr>
                <p:spPr>
                  <a:xfrm>
                    <a:off x="3273480" y="4817520"/>
                    <a:ext cx="53316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400" spc="-1" strike="noStrike">
                        <a:solidFill>
                          <a:srgbClr val="ff0000"/>
                        </a:solidFill>
                        <a:latin typeface="Arial"/>
                      </a:rPr>
                      <a:t>20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"/>
                  <p:cNvSpPr/>
                  <p:nvPr/>
                </p:nvSpPr>
                <p:spPr>
                  <a:xfrm>
                    <a:off x="4333320" y="4817520"/>
                    <a:ext cx="53352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400" spc="-1" strike="noStrike">
                        <a:solidFill>
                          <a:srgbClr val="ff0000"/>
                        </a:solidFill>
                        <a:latin typeface="Arial"/>
                      </a:rPr>
                      <a:t>60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"/>
                  <p:cNvSpPr/>
                  <p:nvPr/>
                </p:nvSpPr>
                <p:spPr>
                  <a:xfrm>
                    <a:off x="4776840" y="4817520"/>
                    <a:ext cx="53136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400" spc="-1" strike="noStrike">
                        <a:solidFill>
                          <a:srgbClr val="ff0000"/>
                        </a:solidFill>
                        <a:latin typeface="Arial"/>
                      </a:rPr>
                      <a:t>80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" name=""/>
                  <p:cNvSpPr/>
                  <p:nvPr/>
                </p:nvSpPr>
                <p:spPr>
                  <a:xfrm>
                    <a:off x="5218560" y="4817520"/>
                    <a:ext cx="61956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400" spc="-1" strike="noStrike">
                        <a:solidFill>
                          <a:srgbClr val="ff0000"/>
                        </a:solidFill>
                        <a:latin typeface="Arial"/>
                      </a:rPr>
                      <a:t>100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0" name=""/>
                <p:cNvSpPr/>
                <p:nvPr/>
              </p:nvSpPr>
              <p:spPr>
                <a:xfrm>
                  <a:off x="2366640" y="3571920"/>
                  <a:ext cx="4968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ff0000"/>
                      </a:solidFill>
                      <a:latin typeface="Arial"/>
                    </a:rPr>
                    <a:t>40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2366640" y="3068640"/>
                  <a:ext cx="4968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ff0000"/>
                      </a:solidFill>
                      <a:latin typeface="Arial"/>
                    </a:rPr>
                    <a:t>60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2366640" y="2636640"/>
                  <a:ext cx="4968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ff0000"/>
                      </a:solidFill>
                      <a:latin typeface="Arial"/>
                    </a:rPr>
                    <a:t>80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2295000" y="1700280"/>
                  <a:ext cx="5796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ff0000"/>
                      </a:solidFill>
                      <a:latin typeface="Arial"/>
                    </a:rPr>
                    <a:t>120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2366640" y="4076640"/>
                  <a:ext cx="4968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ff0000"/>
                      </a:solidFill>
                      <a:latin typeface="Arial"/>
                    </a:rPr>
                    <a:t>20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2223720" y="2131920"/>
                  <a:ext cx="6620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ff0000"/>
                      </a:solidFill>
                      <a:latin typeface="Arial"/>
                    </a:rPr>
                    <a:t>100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6" name=""/>
              <p:cNvGrpSpPr/>
              <p:nvPr/>
            </p:nvGrpSpPr>
            <p:grpSpPr>
              <a:xfrm>
                <a:off x="-3165840" y="-222480"/>
                <a:ext cx="9079560" cy="7911720"/>
                <a:chOff x="-3165840" y="-222480"/>
                <a:chExt cx="9079560" cy="7911720"/>
              </a:xfrm>
            </p:grpSpPr>
            <p:sp>
              <p:nvSpPr>
                <p:cNvPr id="247" name=""/>
                <p:cNvSpPr/>
                <p:nvPr/>
              </p:nvSpPr>
              <p:spPr>
                <a:xfrm rot="3245400">
                  <a:off x="-360720" y="-615240"/>
                  <a:ext cx="3470040" cy="8697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4851" y="788"/>
                      </a:moveTo>
                      <a:arcTo wR="10800" hR="10800" stAng="-4078267" swAng="302807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4851" y="788"/>
                      </a:moveTo>
                      <a:arcTo wR="10800" hR="10800" stAng="-4078267" swAng="3028071"/>
                    </a:path>
                  </a:pathLst>
                </a:custGeom>
                <a:noFill/>
                <a:ln w="7632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 flipV="1">
                  <a:off x="3125880" y="4301640"/>
                  <a:ext cx="279000" cy="349200"/>
                </a:xfrm>
                <a:prstGeom prst="line">
                  <a:avLst/>
                </a:prstGeom>
                <a:ln w="7632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49" name=""/>
            <p:cNvSpPr/>
            <p:nvPr/>
          </p:nvSpPr>
          <p:spPr>
            <a:xfrm>
              <a:off x="3016080" y="1341000"/>
              <a:ext cx="1728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990099"/>
                  </a:solidFill>
                  <a:latin typeface="Arial"/>
                </a:rPr>
                <a:t>stability li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168440" y="1628640"/>
              <a:ext cx="720360" cy="503280"/>
            </a:xfrm>
            <a:prstGeom prst="line">
              <a:avLst/>
            </a:prstGeom>
            <a:ln w="38160">
              <a:solidFill>
                <a:srgbClr val="99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3132000" y="1844640"/>
            <a:ext cx="1944720" cy="2808360"/>
          </a:xfrm>
          <a:custGeom>
            <a:avLst/>
            <a:gdLst/>
            <a:ahLst/>
            <a:rect l="l" t="t" r="r" b="b"/>
            <a:pathLst>
              <a:path w="1225" h="1769">
                <a:moveTo>
                  <a:pt x="46" y="1724"/>
                </a:moveTo>
                <a:lnTo>
                  <a:pt x="862" y="817"/>
                </a:lnTo>
                <a:lnTo>
                  <a:pt x="998" y="544"/>
                </a:lnTo>
                <a:lnTo>
                  <a:pt x="1134" y="272"/>
                </a:lnTo>
                <a:lnTo>
                  <a:pt x="1180" y="136"/>
                </a:lnTo>
                <a:lnTo>
                  <a:pt x="1180" y="45"/>
                </a:lnTo>
                <a:lnTo>
                  <a:pt x="1225" y="0"/>
                </a:lnTo>
                <a:lnTo>
                  <a:pt x="0" y="0"/>
                </a:lnTo>
                <a:lnTo>
                  <a:pt x="0" y="1769"/>
                </a:lnTo>
              </a:path>
            </a:pathLst>
          </a:custGeom>
          <a:solidFill>
            <a:srgbClr val="0000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048320" y="204840"/>
            <a:ext cx="19180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Symbol"/>
                <a:ea typeface="Symbol"/>
              </a:rPr>
              <a:t></a:t>
            </a:r>
            <a:r>
              <a:rPr b="1" lang="en-GB" sz="3200" spc="-1" strike="noStrike" baseline="30000">
                <a:solidFill>
                  <a:srgbClr val="0000ff"/>
                </a:solidFill>
                <a:latin typeface="Arial"/>
              </a:rPr>
              <a:t>-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  emi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579840" y="2290680"/>
            <a:ext cx="460440" cy="520560"/>
          </a:xfrm>
          <a:prstGeom prst="rect">
            <a:avLst/>
          </a:prstGeom>
          <a:solidFill>
            <a:srgbClr val="bbe0e3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Symbol"/>
                <a:ea typeface="Symbol"/>
              </a:rPr>
              <a:t></a:t>
            </a:r>
            <a:r>
              <a:rPr b="1" lang="en-US" sz="2800" spc="-1" strike="noStrike" baseline="30000">
                <a:solidFill>
                  <a:srgbClr val="0000ff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635280" y="2852640"/>
            <a:ext cx="289080" cy="28908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P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848E90-F931-42DA-A8A3-D5BC3D1C05A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0" dur="3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ona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95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96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97" dur="5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8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1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5" name=""/>
          <p:cNvGrpSpPr/>
          <p:nvPr/>
        </p:nvGrpSpPr>
        <p:grpSpPr>
          <a:xfrm>
            <a:off x="-3165840" y="-222480"/>
            <a:ext cx="10500480" cy="7911720"/>
            <a:chOff x="-3165840" y="-222480"/>
            <a:chExt cx="10500480" cy="7911720"/>
          </a:xfrm>
        </p:grpSpPr>
        <p:grpSp>
          <p:nvGrpSpPr>
            <p:cNvPr id="256" name=""/>
            <p:cNvGrpSpPr/>
            <p:nvPr/>
          </p:nvGrpSpPr>
          <p:grpSpPr>
            <a:xfrm>
              <a:off x="-3165840" y="-222480"/>
              <a:ext cx="10500480" cy="7911720"/>
              <a:chOff x="-3165840" y="-222480"/>
              <a:chExt cx="10500480" cy="7911720"/>
            </a:xfrm>
          </p:grpSpPr>
          <p:grpSp>
            <p:nvGrpSpPr>
              <p:cNvPr id="257" name=""/>
              <p:cNvGrpSpPr/>
              <p:nvPr/>
            </p:nvGrpSpPr>
            <p:grpSpPr>
              <a:xfrm>
                <a:off x="1863360" y="1268280"/>
                <a:ext cx="5471280" cy="4083840"/>
                <a:chOff x="1863360" y="1268280"/>
                <a:chExt cx="5471280" cy="4083840"/>
              </a:xfrm>
            </p:grpSpPr>
            <p:grpSp>
              <p:nvGrpSpPr>
                <p:cNvPr id="258" name=""/>
                <p:cNvGrpSpPr/>
                <p:nvPr/>
              </p:nvGrpSpPr>
              <p:grpSpPr>
                <a:xfrm>
                  <a:off x="1863360" y="1268280"/>
                  <a:ext cx="5471280" cy="4083840"/>
                  <a:chOff x="1863360" y="1268280"/>
                  <a:chExt cx="5471280" cy="4083840"/>
                </a:xfrm>
              </p:grpSpPr>
              <p:grpSp>
                <p:nvGrpSpPr>
                  <p:cNvPr id="259" name=""/>
                  <p:cNvGrpSpPr/>
                  <p:nvPr/>
                </p:nvGrpSpPr>
                <p:grpSpPr>
                  <a:xfrm>
                    <a:off x="1863360" y="1268280"/>
                    <a:ext cx="5471280" cy="4083840"/>
                    <a:chOff x="1863360" y="1268280"/>
                    <a:chExt cx="5471280" cy="4083840"/>
                  </a:xfrm>
                </p:grpSpPr>
                <p:graphicFrame>
                  <p:nvGraphicFramePr>
                    <p:cNvPr id="260" name=""/>
                    <p:cNvGraphicFramePr/>
                    <p:nvPr/>
                  </p:nvGraphicFramePr>
                  <p:xfrm>
                    <a:off x="1863360" y="1268280"/>
                    <a:ext cx="5471280" cy="4083840"/>
                  </p:xfrm>
                  <a:graphic>
                    <a:graphicData uri="http://schemas.openxmlformats.org/presentationml/2006/ole">
                      <p:oleObj r:id="rId1" spid="">
                        <p:embed/>
                        <p:pic>
                          <p:nvPicPr>
                            <p:cNvPr id="261" name="" descr=""/>
                            <p:cNvPicPr/>
                            <p:nvPr/>
                          </p:nvPicPr>
                          <p:blipFill>
                            <a:blip r:embed="rId2"/>
                            <a:stretch/>
                          </p:blipFill>
                          <p:spPr>
                            <a:xfrm>
                              <a:off x="1863360" y="1268280"/>
                              <a:ext cx="5471280" cy="4083840"/>
                            </a:xfrm>
                            <a:prstGeom prst="rect">
                              <a:avLst/>
                            </a:prstGeom>
                            <a:ln w="0">
                              <a:noFill/>
                            </a:ln>
                          </p:spPr>
                        </p:pic>
                      </p:oleObj>
                    </a:graphicData>
                  </a:graphic>
                </p:graphicFrame>
                <p:sp>
                  <p:nvSpPr>
                    <p:cNvPr id="262" name=""/>
                    <p:cNvSpPr/>
                    <p:nvPr/>
                  </p:nvSpPr>
                  <p:spPr>
                    <a:xfrm>
                      <a:off x="4404600" y="4986720"/>
                      <a:ext cx="21214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proton number 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63" name=""/>
                  <p:cNvSpPr/>
                  <p:nvPr/>
                </p:nvSpPr>
                <p:spPr>
                  <a:xfrm rot="16200000">
                    <a:off x="857880" y="3069000"/>
                    <a:ext cx="302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400" spc="-1" strike="noStrike">
                        <a:solidFill>
                          <a:srgbClr val="0000ff"/>
                        </a:solidFill>
                        <a:latin typeface="Arial"/>
                      </a:rPr>
                      <a:t>Neutron  number N = A-Z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64" name=""/>
                  <p:cNvGrpSpPr/>
                  <p:nvPr/>
                </p:nvGrpSpPr>
                <p:grpSpPr>
                  <a:xfrm>
                    <a:off x="3083400" y="1358640"/>
                    <a:ext cx="3638160" cy="3321720"/>
                    <a:chOff x="3083400" y="1358640"/>
                    <a:chExt cx="3638160" cy="3321720"/>
                  </a:xfrm>
                </p:grpSpPr>
                <p:sp>
                  <p:nvSpPr>
                    <p:cNvPr id="265" name=""/>
                    <p:cNvSpPr/>
                    <p:nvPr/>
                  </p:nvSpPr>
                  <p:spPr>
                    <a:xfrm flipV="1">
                      <a:off x="3083400" y="1682640"/>
                      <a:ext cx="2962080" cy="2997720"/>
                    </a:xfrm>
                    <a:prstGeom prst="line">
                      <a:avLst/>
                    </a:prstGeom>
                    <a:ln w="57240">
                      <a:solidFill>
                        <a:srgbClr val="00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6" name=""/>
                    <p:cNvSpPr/>
                    <p:nvPr/>
                  </p:nvSpPr>
                  <p:spPr>
                    <a:xfrm>
                      <a:off x="6014160" y="1358640"/>
                      <a:ext cx="70740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N=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67" name=""/>
                  <p:cNvSpPr/>
                  <p:nvPr/>
                </p:nvSpPr>
                <p:spPr>
                  <a:xfrm>
                    <a:off x="3803400" y="4817520"/>
                    <a:ext cx="53352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400" spc="-1" strike="noStrike">
                        <a:solidFill>
                          <a:srgbClr val="ff0000"/>
                        </a:solidFill>
                        <a:latin typeface="Arial"/>
                      </a:rPr>
                      <a:t>40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273480" y="4817520"/>
                    <a:ext cx="53316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400" spc="-1" strike="noStrike">
                        <a:solidFill>
                          <a:srgbClr val="ff0000"/>
                        </a:solidFill>
                        <a:latin typeface="Arial"/>
                      </a:rPr>
                      <a:t>20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4333320" y="4817520"/>
                    <a:ext cx="53352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400" spc="-1" strike="noStrike">
                        <a:solidFill>
                          <a:srgbClr val="ff0000"/>
                        </a:solidFill>
                        <a:latin typeface="Arial"/>
                      </a:rPr>
                      <a:t>60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>
                    <a:off x="4776840" y="4817520"/>
                    <a:ext cx="53136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400" spc="-1" strike="noStrike">
                        <a:solidFill>
                          <a:srgbClr val="ff0000"/>
                        </a:solidFill>
                        <a:latin typeface="Arial"/>
                      </a:rPr>
                      <a:t>80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>
                    <a:off x="5218560" y="4817520"/>
                    <a:ext cx="61956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400" spc="-1" strike="noStrike">
                        <a:solidFill>
                          <a:srgbClr val="ff0000"/>
                        </a:solidFill>
                        <a:latin typeface="Arial"/>
                      </a:rPr>
                      <a:t>100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2" name=""/>
                <p:cNvSpPr/>
                <p:nvPr/>
              </p:nvSpPr>
              <p:spPr>
                <a:xfrm>
                  <a:off x="2366640" y="3571920"/>
                  <a:ext cx="4968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ff0000"/>
                      </a:solidFill>
                      <a:latin typeface="Arial"/>
                    </a:rPr>
                    <a:t>40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2366640" y="3068640"/>
                  <a:ext cx="4968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ff0000"/>
                      </a:solidFill>
                      <a:latin typeface="Arial"/>
                    </a:rPr>
                    <a:t>60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2366640" y="2636640"/>
                  <a:ext cx="4968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ff0000"/>
                      </a:solidFill>
                      <a:latin typeface="Arial"/>
                    </a:rPr>
                    <a:t>80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2295000" y="1700280"/>
                  <a:ext cx="5796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ff0000"/>
                      </a:solidFill>
                      <a:latin typeface="Arial"/>
                    </a:rPr>
                    <a:t>120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2366640" y="4076640"/>
                  <a:ext cx="4968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ff0000"/>
                      </a:solidFill>
                      <a:latin typeface="Arial"/>
                    </a:rPr>
                    <a:t>20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2223720" y="2131920"/>
                  <a:ext cx="6620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ff0000"/>
                      </a:solidFill>
                      <a:latin typeface="Arial"/>
                    </a:rPr>
                    <a:t>100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8" name=""/>
              <p:cNvGrpSpPr/>
              <p:nvPr/>
            </p:nvGrpSpPr>
            <p:grpSpPr>
              <a:xfrm>
                <a:off x="-3165840" y="-222480"/>
                <a:ext cx="9079560" cy="7911720"/>
                <a:chOff x="-3165840" y="-222480"/>
                <a:chExt cx="9079560" cy="7911720"/>
              </a:xfrm>
            </p:grpSpPr>
            <p:sp>
              <p:nvSpPr>
                <p:cNvPr id="279" name=""/>
                <p:cNvSpPr/>
                <p:nvPr/>
              </p:nvSpPr>
              <p:spPr>
                <a:xfrm rot="3245400">
                  <a:off x="-360720" y="-615240"/>
                  <a:ext cx="3470040" cy="8697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4851" y="788"/>
                      </a:moveTo>
                      <a:arcTo wR="10800" hR="10800" stAng="-4078267" swAng="302807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4851" y="788"/>
                      </a:moveTo>
                      <a:arcTo wR="10800" hR="10800" stAng="-4078267" swAng="3028071"/>
                    </a:path>
                  </a:pathLst>
                </a:custGeom>
                <a:noFill/>
                <a:ln w="7632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flipV="1">
                  <a:off x="3125880" y="4301640"/>
                  <a:ext cx="279000" cy="349200"/>
                </a:xfrm>
                <a:prstGeom prst="line">
                  <a:avLst/>
                </a:prstGeom>
                <a:ln w="7632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81" name=""/>
            <p:cNvSpPr/>
            <p:nvPr/>
          </p:nvSpPr>
          <p:spPr>
            <a:xfrm>
              <a:off x="3016080" y="1341000"/>
              <a:ext cx="1728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990099"/>
                  </a:solidFill>
                  <a:latin typeface="Arial"/>
                </a:rPr>
                <a:t>stability li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168440" y="1628640"/>
              <a:ext cx="720360" cy="503280"/>
            </a:xfrm>
            <a:prstGeom prst="line">
              <a:avLst/>
            </a:prstGeom>
            <a:ln w="38160">
              <a:solidFill>
                <a:srgbClr val="99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"/>
          <p:cNvSpPr/>
          <p:nvPr/>
        </p:nvSpPr>
        <p:spPr>
          <a:xfrm>
            <a:off x="1050120" y="204840"/>
            <a:ext cx="49096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Symbol"/>
                <a:ea typeface="Symbol"/>
              </a:rPr>
              <a:t></a:t>
            </a:r>
            <a:r>
              <a:rPr b="1" lang="en-GB" sz="3200" spc="-1" strike="noStrike" baseline="30000">
                <a:solidFill>
                  <a:srgbClr val="0000ff"/>
                </a:solidFill>
                <a:latin typeface="Arial"/>
              </a:rPr>
              <a:t>+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  emission, or electron cap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3132000" y="1844640"/>
            <a:ext cx="1944720" cy="2808360"/>
            <a:chOff x="3132000" y="1844640"/>
            <a:chExt cx="1944720" cy="2808360"/>
          </a:xfrm>
        </p:grpSpPr>
        <p:sp>
          <p:nvSpPr>
            <p:cNvPr id="285" name=""/>
            <p:cNvSpPr/>
            <p:nvPr/>
          </p:nvSpPr>
          <p:spPr>
            <a:xfrm flipH="1">
              <a:off x="3132000" y="2776680"/>
              <a:ext cx="1849680" cy="1871640"/>
            </a:xfrm>
            <a:prstGeom prst="rtTriangle">
              <a:avLst/>
            </a:prstGeom>
            <a:solidFill>
              <a:srgbClr val="ff66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132000" y="1844640"/>
              <a:ext cx="1944720" cy="2808360"/>
            </a:xfrm>
            <a:custGeom>
              <a:avLst/>
              <a:gdLst/>
              <a:ahLst/>
              <a:rect l="l" t="t" r="r" b="b"/>
              <a:pathLst>
                <a:path w="1225" h="1769">
                  <a:moveTo>
                    <a:pt x="1179" y="590"/>
                  </a:moveTo>
                  <a:lnTo>
                    <a:pt x="0" y="1769"/>
                  </a:lnTo>
                  <a:lnTo>
                    <a:pt x="771" y="907"/>
                  </a:lnTo>
                  <a:lnTo>
                    <a:pt x="952" y="590"/>
                  </a:lnTo>
                  <a:lnTo>
                    <a:pt x="1088" y="363"/>
                  </a:lnTo>
                  <a:lnTo>
                    <a:pt x="1134" y="182"/>
                  </a:lnTo>
                  <a:lnTo>
                    <a:pt x="1225" y="0"/>
                  </a:lnTo>
                  <a:lnTo>
                    <a:pt x="1179" y="45"/>
                  </a:lnTo>
                  <a:lnTo>
                    <a:pt x="1179" y="590"/>
                  </a:lnTo>
                  <a:close/>
                </a:path>
              </a:pathLst>
            </a:custGeom>
            <a:solidFill>
              <a:srgbClr val="ff66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7" name=""/>
          <p:cNvSpPr/>
          <p:nvPr/>
        </p:nvSpPr>
        <p:spPr>
          <a:xfrm>
            <a:off x="4500720" y="3860640"/>
            <a:ext cx="1800000" cy="83016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"/>
              </a:rPr>
              <a:t>+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electron cap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flipH="1" flipV="1">
            <a:off x="4571640" y="3357720"/>
            <a:ext cx="360360" cy="3585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P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34FBBD-26E8-431C-A7E9-C998A6DCC0B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8" dur="3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ona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23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24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25" dur="5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36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39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324000" y="189000"/>
            <a:ext cx="30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ff"/>
                </a:solidFill>
                <a:latin typeface="Arial"/>
              </a:rPr>
              <a:t>Alpha dec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324000" y="907920"/>
                <a:ext cx="3830400" cy="94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t xml:space="preserve">Z</m:t>
                        </m:r>
                      </m:sub>
                      <m:sup>
                        <m:r>
                          <m:t xml:space="preserve">A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X</m:t>
                    </m:r>
                    <m:r>
                      <m:t xml:space="preserve"> </m:t>
                    </m:r>
                    <m:r>
                      <m:t xml:space="preserve">→</m:t>
                    </m:r>
                    <m:r>
                      <m:t xml:space="preserve"> </m:t>
                    </m:r>
                    <m:sPr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4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He</m:t>
                    </m:r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3635280" y="907920"/>
                <a:ext cx="187956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b>
                      <m:sup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2" name=""/>
          <p:cNvSpPr/>
          <p:nvPr/>
        </p:nvSpPr>
        <p:spPr>
          <a:xfrm>
            <a:off x="5796000" y="98100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+      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443640" y="712080"/>
            <a:ext cx="2371680" cy="1284120"/>
          </a:xfrm>
          <a:prstGeom prst="irregularSeal1">
            <a:avLst/>
          </a:prstGeom>
          <a:solidFill>
            <a:srgbClr val="ffff00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900000" y="4005360"/>
            <a:ext cx="11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e.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900000" y="5013360"/>
                <a:ext cx="727236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88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26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Ra</m:t>
                    </m:r>
                    <m:r>
                      <m:t xml:space="preserve">→</m:t>
                    </m:r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86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22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Rn</m:t>
                    </m:r>
                    <m:r>
                      <m:t xml:space="preserve"> </m:t>
                    </m:r>
                    <m:r>
                      <m:t xml:space="preserve">+</m:t>
                    </m:r>
                    <m:sPr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4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He</m:t>
                    </m:r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energy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3635280" y="2708280"/>
            <a:ext cx="1152720" cy="115236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2987640" y="2781360"/>
            <a:ext cx="2371680" cy="1035000"/>
          </a:xfrm>
          <a:prstGeom prst="irregularSeal1">
            <a:avLst/>
          </a:prstGeom>
          <a:solidFill>
            <a:srgbClr val="ffff00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-1405080" y="2852640"/>
          <a:ext cx="1152720" cy="1152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1405080" y="2852640"/>
                    <a:ext cx="1152720" cy="11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0" name=""/>
          <p:cNvGraphicFramePr/>
          <p:nvPr/>
        </p:nvGraphicFramePr>
        <p:xfrm>
          <a:off x="9901080" y="4000680"/>
          <a:ext cx="503280" cy="457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0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901080" y="4000680"/>
                    <a:ext cx="50328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P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B1F281-F0F9-462C-80D2-81420D89401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2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1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6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70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500"/>
                            </p:stCondLst>
                            <p:childTnLst>
                              <p:par>
                                <p:cTn id="576" nodeType="afterEffect" fill="hold" presetClass="exit" presetID="4" presetSubtype="16">
                                  <p:stCondLst>
                                    <p:cond delay="10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77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1100"/>
                            </p:stCondLst>
                            <p:childTnLst>
                              <p:par>
                                <p:cTn id="580" nodeType="afterEffect" fill="hold" presetClass="path" presetID="35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0.51962 -0.02106 L 0.37796 -0.02106 E">
                                      <p:cBhvr>
                                        <p:cTn id="581" dur="2000" fill="hold"/>
                                        <p:tgtEl>
                                          <p:spTgt spid="2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2" nodeType="withEffect" fill="hold" presetClass="path" presetID="63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-0.56284 -0.12616 L -0.14948 -0.12616 E">
                                      <p:cBhvr>
                                        <p:cTn id="583" dur="2000" fill="hold"/>
                                        <p:tgtEl>
                                          <p:spTgt spid="3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94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3600" y="0"/>
            <a:ext cx="251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ffff"/>
                </a:solidFill>
                <a:latin typeface="Arial"/>
              </a:rPr>
              <a:t>Beta (-) dec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979640" y="45000"/>
            <a:ext cx="6948360" cy="17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Comic Sans MS"/>
              </a:rPr>
              <a:t>     </a:t>
            </a:r>
            <a:r>
              <a:rPr b="1" lang="en-US" sz="2600" spc="-1" strike="noStrike">
                <a:solidFill>
                  <a:srgbClr val="ffff00"/>
                </a:solidFill>
                <a:latin typeface="Comic Sans MS"/>
              </a:rPr>
              <a:t>A neutron in the nucleus turns into a proton, an electron and an antineutrino. The nucleus now has one more proton than it started with.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492360" y="4437000"/>
            <a:ext cx="287640" cy="287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4177440" y="2565360"/>
            <a:ext cx="970920" cy="938160"/>
            <a:chOff x="4177440" y="2565360"/>
            <a:chExt cx="970920" cy="938160"/>
          </a:xfrm>
        </p:grpSpPr>
        <p:sp>
          <p:nvSpPr>
            <p:cNvPr id="306" name=""/>
            <p:cNvSpPr/>
            <p:nvPr/>
          </p:nvSpPr>
          <p:spPr>
            <a:xfrm>
              <a:off x="4859280" y="3214800"/>
              <a:ext cx="289080" cy="28872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7" name=""/>
            <p:cNvGrpSpPr/>
            <p:nvPr/>
          </p:nvGrpSpPr>
          <p:grpSpPr>
            <a:xfrm>
              <a:off x="4177440" y="2565360"/>
              <a:ext cx="970920" cy="938160"/>
              <a:chOff x="4177440" y="2565360"/>
              <a:chExt cx="970920" cy="938160"/>
            </a:xfrm>
          </p:grpSpPr>
          <p:sp>
            <p:nvSpPr>
              <p:cNvPr id="308" name=""/>
              <p:cNvSpPr/>
              <p:nvPr/>
            </p:nvSpPr>
            <p:spPr>
              <a:xfrm>
                <a:off x="4859280" y="2854440"/>
                <a:ext cx="289080" cy="28872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9" name=""/>
              <p:cNvGrpSpPr/>
              <p:nvPr/>
            </p:nvGrpSpPr>
            <p:grpSpPr>
              <a:xfrm>
                <a:off x="4177440" y="2565360"/>
                <a:ext cx="956160" cy="938160"/>
                <a:chOff x="4177440" y="2565360"/>
                <a:chExt cx="956160" cy="93816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4427640" y="3214800"/>
                  <a:ext cx="288720" cy="288720"/>
                </a:xfrm>
                <a:prstGeom prst="ellipse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11" name=""/>
                <p:cNvGrpSpPr/>
                <p:nvPr/>
              </p:nvGrpSpPr>
              <p:grpSpPr>
                <a:xfrm>
                  <a:off x="4177440" y="2565360"/>
                  <a:ext cx="956160" cy="875880"/>
                  <a:chOff x="4177440" y="2565360"/>
                  <a:chExt cx="956160" cy="875880"/>
                </a:xfrm>
              </p:grpSpPr>
              <p:grpSp>
                <p:nvGrpSpPr>
                  <p:cNvPr id="312" name=""/>
                  <p:cNvGrpSpPr/>
                  <p:nvPr/>
                </p:nvGrpSpPr>
                <p:grpSpPr>
                  <a:xfrm>
                    <a:off x="4177440" y="2565360"/>
                    <a:ext cx="956160" cy="875880"/>
                    <a:chOff x="4177440" y="2565360"/>
                    <a:chExt cx="956160" cy="875880"/>
                  </a:xfrm>
                </p:grpSpPr>
                <p:grpSp>
                  <p:nvGrpSpPr>
                    <p:cNvPr id="313" name=""/>
                    <p:cNvGrpSpPr/>
                    <p:nvPr/>
                  </p:nvGrpSpPr>
                  <p:grpSpPr>
                    <a:xfrm>
                      <a:off x="4211640" y="2565360"/>
                      <a:ext cx="921960" cy="875880"/>
                      <a:chOff x="4211640" y="2565360"/>
                      <a:chExt cx="921960" cy="875880"/>
                    </a:xfrm>
                  </p:grpSpPr>
                  <p:sp>
                    <p:nvSpPr>
                      <p:cNvPr id="314" name=""/>
                      <p:cNvSpPr/>
                      <p:nvPr/>
                    </p:nvSpPr>
                    <p:spPr>
                      <a:xfrm>
                        <a:off x="4248720" y="2834640"/>
                        <a:ext cx="380160" cy="390240"/>
                      </a:xfrm>
                      <a:prstGeom prst="ellipse">
                        <a:avLst/>
                      </a:prstGeom>
                      <a:solidFill>
                        <a:srgbClr val="ff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spAutoFit/>
                      </a:bodyPr>
                      <a:p>
                        <a:pPr algn="ctr">
                          <a:spcBef>
                            <a:spcPts val="751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GB" sz="1200" spc="-1" strike="noStrike">
                            <a:solidFill>
                              <a:srgbClr val="ffff00"/>
                            </a:solidFill>
                            <a:latin typeface="Arial"/>
                          </a:rPr>
                          <a:t>+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315" name=""/>
                      <p:cNvGrpSpPr/>
                      <p:nvPr/>
                    </p:nvGrpSpPr>
                    <p:grpSpPr>
                      <a:xfrm>
                        <a:off x="4211640" y="2565360"/>
                        <a:ext cx="921960" cy="875880"/>
                        <a:chOff x="4211640" y="2565360"/>
                        <a:chExt cx="921960" cy="875880"/>
                      </a:xfrm>
                    </p:grpSpPr>
                    <p:grpSp>
                      <p:nvGrpSpPr>
                        <p:cNvPr id="316" name=""/>
                        <p:cNvGrpSpPr/>
                        <p:nvPr/>
                      </p:nvGrpSpPr>
                      <p:grpSpPr>
                        <a:xfrm>
                          <a:off x="4211640" y="2565360"/>
                          <a:ext cx="921960" cy="875880"/>
                          <a:chOff x="4211640" y="2565360"/>
                          <a:chExt cx="921960" cy="875880"/>
                        </a:xfrm>
                      </p:grpSpPr>
                      <p:sp>
                        <p:nvSpPr>
                          <p:cNvPr id="317" name=""/>
                          <p:cNvSpPr/>
                          <p:nvPr/>
                        </p:nvSpPr>
                        <p:spPr>
                          <a:xfrm>
                            <a:off x="4572000" y="3070080"/>
                            <a:ext cx="288720" cy="289080"/>
                          </a:xfrm>
                          <a:prstGeom prst="ellipse">
                            <a:avLst/>
                          </a:prstGeom>
                          <a:solidFill>
                            <a:srgbClr val="00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18" name=""/>
                          <p:cNvSpPr/>
                          <p:nvPr/>
                        </p:nvSpPr>
                        <p:spPr>
                          <a:xfrm>
                            <a:off x="4284720" y="2636640"/>
                            <a:ext cx="288720" cy="289080"/>
                          </a:xfrm>
                          <a:prstGeom prst="ellipse">
                            <a:avLst/>
                          </a:prstGeom>
                          <a:solidFill>
                            <a:srgbClr val="00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19" name=""/>
                          <p:cNvSpPr/>
                          <p:nvPr/>
                        </p:nvSpPr>
                        <p:spPr>
                          <a:xfrm>
                            <a:off x="4572000" y="2565360"/>
                            <a:ext cx="288720" cy="289080"/>
                          </a:xfrm>
                          <a:prstGeom prst="ellipse">
                            <a:avLst/>
                          </a:prstGeom>
                          <a:solidFill>
                            <a:srgbClr val="00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20" name=""/>
                          <p:cNvSpPr/>
                          <p:nvPr/>
                        </p:nvSpPr>
                        <p:spPr>
                          <a:xfrm>
                            <a:off x="4466160" y="2690640"/>
                            <a:ext cx="380160" cy="390240"/>
                          </a:xfrm>
                          <a:prstGeom prst="ellipse">
                            <a:avLst/>
                          </a:prstGeom>
                          <a:solidFill>
                            <a:srgbClr val="ff0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pPr algn="ctr">
                              <a:spcBef>
                                <a:spcPts val="751"/>
                              </a:spcBef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en-GB" sz="1200" spc="-1" strike="noStrike">
                                <a:solidFill>
                                  <a:srgbClr val="ffff00"/>
                                </a:solidFill>
                                <a:latin typeface="Arial"/>
                              </a:rPr>
                              <a:t>+</a:t>
                            </a:r>
                            <a:endParaRPr b="0" lang="en-US" sz="12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21" name=""/>
                          <p:cNvSpPr/>
                          <p:nvPr/>
                        </p:nvSpPr>
                        <p:spPr>
                          <a:xfrm>
                            <a:off x="4753440" y="2617560"/>
                            <a:ext cx="380160" cy="390240"/>
                          </a:xfrm>
                          <a:prstGeom prst="ellipse">
                            <a:avLst/>
                          </a:prstGeom>
                          <a:solidFill>
                            <a:srgbClr val="ff0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pPr algn="ctr">
                              <a:spcBef>
                                <a:spcPts val="751"/>
                              </a:spcBef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en-GB" sz="1200" spc="-1" strike="noStrike">
                                <a:solidFill>
                                  <a:srgbClr val="ffff00"/>
                                </a:solidFill>
                                <a:latin typeface="Arial"/>
                              </a:rPr>
                              <a:t>+</a:t>
                            </a:r>
                            <a:endParaRPr b="0" lang="en-US" sz="12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22" name=""/>
                          <p:cNvSpPr/>
                          <p:nvPr/>
                        </p:nvSpPr>
                        <p:spPr>
                          <a:xfrm>
                            <a:off x="4211640" y="2997000"/>
                            <a:ext cx="288720" cy="289080"/>
                          </a:xfrm>
                          <a:prstGeom prst="ellipse">
                            <a:avLst/>
                          </a:prstGeom>
                          <a:solidFill>
                            <a:srgbClr val="00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23" name=""/>
                          <p:cNvSpPr/>
                          <p:nvPr/>
                        </p:nvSpPr>
                        <p:spPr>
                          <a:xfrm>
                            <a:off x="4753440" y="3051000"/>
                            <a:ext cx="380160" cy="390240"/>
                          </a:xfrm>
                          <a:prstGeom prst="ellipse">
                            <a:avLst/>
                          </a:prstGeom>
                          <a:solidFill>
                            <a:srgbClr val="ff0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pPr algn="ctr">
                              <a:spcBef>
                                <a:spcPts val="751"/>
                              </a:spcBef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en-GB" sz="1200" spc="-1" strike="noStrike">
                                <a:solidFill>
                                  <a:srgbClr val="ffff00"/>
                                </a:solidFill>
                                <a:latin typeface="Arial"/>
                              </a:rPr>
                              <a:t>+</a:t>
                            </a:r>
                            <a:endParaRPr b="0" lang="en-US" sz="12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324" name=""/>
                        <p:cNvSpPr/>
                        <p:nvPr/>
                      </p:nvSpPr>
                      <p:spPr>
                        <a:xfrm>
                          <a:off x="4716360" y="2925720"/>
                          <a:ext cx="289080" cy="289080"/>
                        </a:xfrm>
                        <a:prstGeom prst="ellipse">
                          <a:avLst/>
                        </a:prstGeom>
                        <a:solidFill>
                          <a:srgbClr val="00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325" name=""/>
                    <p:cNvSpPr/>
                    <p:nvPr/>
                  </p:nvSpPr>
                  <p:spPr>
                    <a:xfrm>
                      <a:off x="4177440" y="3051000"/>
                      <a:ext cx="380160" cy="39024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26" name=""/>
                  <p:cNvSpPr/>
                  <p:nvPr/>
                </p:nvSpPr>
                <p:spPr>
                  <a:xfrm>
                    <a:off x="4466160" y="2979000"/>
                    <a:ext cx="380160" cy="39024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200" spc="-1" strike="noStrike">
                        <a:solidFill>
                          <a:srgbClr val="ffff00"/>
                        </a:solidFill>
                        <a:latin typeface="Arial"/>
                      </a:rPr>
                      <a:t>+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327" name=""/>
          <p:cNvGrpSpPr/>
          <p:nvPr/>
        </p:nvGrpSpPr>
        <p:grpSpPr>
          <a:xfrm>
            <a:off x="-1366200" y="3480480"/>
            <a:ext cx="1042200" cy="1102320"/>
            <a:chOff x="-1366200" y="3480480"/>
            <a:chExt cx="1042200" cy="1102320"/>
          </a:xfrm>
        </p:grpSpPr>
        <p:sp>
          <p:nvSpPr>
            <p:cNvPr id="328" name=""/>
            <p:cNvSpPr/>
            <p:nvPr/>
          </p:nvSpPr>
          <p:spPr>
            <a:xfrm>
              <a:off x="-612720" y="3931920"/>
              <a:ext cx="288720" cy="2890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9" name=""/>
            <p:cNvGrpSpPr/>
            <p:nvPr/>
          </p:nvGrpSpPr>
          <p:grpSpPr>
            <a:xfrm>
              <a:off x="-1366200" y="3480480"/>
              <a:ext cx="956160" cy="1102320"/>
              <a:chOff x="-1366200" y="3480480"/>
              <a:chExt cx="956160" cy="1102320"/>
            </a:xfrm>
          </p:grpSpPr>
          <p:sp>
            <p:nvSpPr>
              <p:cNvPr id="330" name=""/>
              <p:cNvSpPr/>
              <p:nvPr/>
            </p:nvSpPr>
            <p:spPr>
              <a:xfrm>
                <a:off x="-1221840" y="3480480"/>
                <a:ext cx="380160" cy="3902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ffff00"/>
                    </a:solidFill>
                    <a:latin typeface="Arial"/>
                  </a:rPr>
                  <a:t>+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1" name=""/>
              <p:cNvGrpSpPr/>
              <p:nvPr/>
            </p:nvGrpSpPr>
            <p:grpSpPr>
              <a:xfrm>
                <a:off x="-1366200" y="3644640"/>
                <a:ext cx="956160" cy="938160"/>
                <a:chOff x="-1366200" y="3644640"/>
                <a:chExt cx="956160" cy="938160"/>
              </a:xfrm>
            </p:grpSpPr>
            <p:sp>
              <p:nvSpPr>
                <p:cNvPr id="332" name=""/>
                <p:cNvSpPr/>
                <p:nvPr/>
              </p:nvSpPr>
              <p:spPr>
                <a:xfrm>
                  <a:off x="-1116000" y="4294080"/>
                  <a:ext cx="288720" cy="288720"/>
                </a:xfrm>
                <a:prstGeom prst="ellipse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33" name=""/>
                <p:cNvGrpSpPr/>
                <p:nvPr/>
              </p:nvGrpSpPr>
              <p:grpSpPr>
                <a:xfrm>
                  <a:off x="-1366200" y="3644640"/>
                  <a:ext cx="956160" cy="875880"/>
                  <a:chOff x="-1366200" y="3644640"/>
                  <a:chExt cx="956160" cy="875880"/>
                </a:xfrm>
              </p:grpSpPr>
              <p:grpSp>
                <p:nvGrpSpPr>
                  <p:cNvPr id="334" name=""/>
                  <p:cNvGrpSpPr/>
                  <p:nvPr/>
                </p:nvGrpSpPr>
                <p:grpSpPr>
                  <a:xfrm>
                    <a:off x="-1366200" y="3644640"/>
                    <a:ext cx="956160" cy="875880"/>
                    <a:chOff x="-1366200" y="3644640"/>
                    <a:chExt cx="956160" cy="875880"/>
                  </a:xfrm>
                </p:grpSpPr>
                <p:grpSp>
                  <p:nvGrpSpPr>
                    <p:cNvPr id="335" name=""/>
                    <p:cNvGrpSpPr/>
                    <p:nvPr/>
                  </p:nvGrpSpPr>
                  <p:grpSpPr>
                    <a:xfrm>
                      <a:off x="-1332000" y="3644640"/>
                      <a:ext cx="921960" cy="875880"/>
                      <a:chOff x="-1332000" y="3644640"/>
                      <a:chExt cx="921960" cy="875880"/>
                    </a:xfrm>
                  </p:grpSpPr>
                  <p:sp>
                    <p:nvSpPr>
                      <p:cNvPr id="336" name=""/>
                      <p:cNvSpPr/>
                      <p:nvPr/>
                    </p:nvSpPr>
                    <p:spPr>
                      <a:xfrm>
                        <a:off x="-1294920" y="3913920"/>
                        <a:ext cx="380160" cy="390240"/>
                      </a:xfrm>
                      <a:prstGeom prst="ellipse">
                        <a:avLst/>
                      </a:prstGeom>
                      <a:solidFill>
                        <a:srgbClr val="ff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spAutoFit/>
                      </a:bodyPr>
                      <a:p>
                        <a:pPr algn="ctr">
                          <a:spcBef>
                            <a:spcPts val="751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GB" sz="1200" spc="-1" strike="noStrike">
                            <a:solidFill>
                              <a:srgbClr val="ffff00"/>
                            </a:solidFill>
                            <a:latin typeface="Arial"/>
                          </a:rPr>
                          <a:t>+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337" name=""/>
                      <p:cNvGrpSpPr/>
                      <p:nvPr/>
                    </p:nvGrpSpPr>
                    <p:grpSpPr>
                      <a:xfrm>
                        <a:off x="-1332000" y="3644640"/>
                        <a:ext cx="921960" cy="875880"/>
                        <a:chOff x="-1332000" y="3644640"/>
                        <a:chExt cx="921960" cy="875880"/>
                      </a:xfrm>
                    </p:grpSpPr>
                    <p:grpSp>
                      <p:nvGrpSpPr>
                        <p:cNvPr id="338" name=""/>
                        <p:cNvGrpSpPr/>
                        <p:nvPr/>
                      </p:nvGrpSpPr>
                      <p:grpSpPr>
                        <a:xfrm>
                          <a:off x="-1332000" y="3644640"/>
                          <a:ext cx="921960" cy="875880"/>
                          <a:chOff x="-1332000" y="3644640"/>
                          <a:chExt cx="921960" cy="875880"/>
                        </a:xfrm>
                      </p:grpSpPr>
                      <p:sp>
                        <p:nvSpPr>
                          <p:cNvPr id="339" name=""/>
                          <p:cNvSpPr/>
                          <p:nvPr/>
                        </p:nvSpPr>
                        <p:spPr>
                          <a:xfrm>
                            <a:off x="-971640" y="4149360"/>
                            <a:ext cx="288720" cy="289080"/>
                          </a:xfrm>
                          <a:prstGeom prst="ellipse">
                            <a:avLst/>
                          </a:prstGeom>
                          <a:solidFill>
                            <a:srgbClr val="00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40" name=""/>
                          <p:cNvSpPr/>
                          <p:nvPr/>
                        </p:nvSpPr>
                        <p:spPr>
                          <a:xfrm>
                            <a:off x="-1258920" y="3715920"/>
                            <a:ext cx="288720" cy="289080"/>
                          </a:xfrm>
                          <a:prstGeom prst="ellipse">
                            <a:avLst/>
                          </a:prstGeom>
                          <a:solidFill>
                            <a:srgbClr val="00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41" name=""/>
                          <p:cNvSpPr/>
                          <p:nvPr/>
                        </p:nvSpPr>
                        <p:spPr>
                          <a:xfrm>
                            <a:off x="-971640" y="3644640"/>
                            <a:ext cx="288720" cy="289080"/>
                          </a:xfrm>
                          <a:prstGeom prst="ellipse">
                            <a:avLst/>
                          </a:prstGeom>
                          <a:solidFill>
                            <a:srgbClr val="00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42" name=""/>
                          <p:cNvSpPr/>
                          <p:nvPr/>
                        </p:nvSpPr>
                        <p:spPr>
                          <a:xfrm>
                            <a:off x="-1077480" y="3769920"/>
                            <a:ext cx="380160" cy="390240"/>
                          </a:xfrm>
                          <a:prstGeom prst="ellipse">
                            <a:avLst/>
                          </a:prstGeom>
                          <a:solidFill>
                            <a:srgbClr val="ff0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pPr algn="ctr">
                              <a:spcBef>
                                <a:spcPts val="751"/>
                              </a:spcBef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en-GB" sz="1200" spc="-1" strike="noStrike">
                                <a:solidFill>
                                  <a:srgbClr val="ffff00"/>
                                </a:solidFill>
                                <a:latin typeface="Arial"/>
                              </a:rPr>
                              <a:t>+</a:t>
                            </a:r>
                            <a:endParaRPr b="0" lang="en-US" sz="12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43" name=""/>
                          <p:cNvSpPr/>
                          <p:nvPr/>
                        </p:nvSpPr>
                        <p:spPr>
                          <a:xfrm>
                            <a:off x="-790200" y="3696840"/>
                            <a:ext cx="380160" cy="390240"/>
                          </a:xfrm>
                          <a:prstGeom prst="ellipse">
                            <a:avLst/>
                          </a:prstGeom>
                          <a:solidFill>
                            <a:srgbClr val="ff0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pPr algn="ctr">
                              <a:spcBef>
                                <a:spcPts val="751"/>
                              </a:spcBef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en-GB" sz="1200" spc="-1" strike="noStrike">
                                <a:solidFill>
                                  <a:srgbClr val="ffff00"/>
                                </a:solidFill>
                                <a:latin typeface="Arial"/>
                              </a:rPr>
                              <a:t>+</a:t>
                            </a:r>
                            <a:endParaRPr b="0" lang="en-US" sz="12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44" name=""/>
                          <p:cNvSpPr/>
                          <p:nvPr/>
                        </p:nvSpPr>
                        <p:spPr>
                          <a:xfrm>
                            <a:off x="-1332000" y="4076280"/>
                            <a:ext cx="288720" cy="289080"/>
                          </a:xfrm>
                          <a:prstGeom prst="ellipse">
                            <a:avLst/>
                          </a:prstGeom>
                          <a:solidFill>
                            <a:srgbClr val="00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45" name=""/>
                          <p:cNvSpPr/>
                          <p:nvPr/>
                        </p:nvSpPr>
                        <p:spPr>
                          <a:xfrm>
                            <a:off x="-790200" y="4130280"/>
                            <a:ext cx="380160" cy="390240"/>
                          </a:xfrm>
                          <a:prstGeom prst="ellipse">
                            <a:avLst/>
                          </a:prstGeom>
                          <a:solidFill>
                            <a:srgbClr val="ff0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pPr algn="ctr">
                              <a:spcBef>
                                <a:spcPts val="751"/>
                              </a:spcBef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en-GB" sz="1200" spc="-1" strike="noStrike">
                                <a:solidFill>
                                  <a:srgbClr val="ffff00"/>
                                </a:solidFill>
                                <a:latin typeface="Arial"/>
                              </a:rPr>
                              <a:t>+</a:t>
                            </a:r>
                            <a:endParaRPr b="0" lang="en-US" sz="12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346" name=""/>
                        <p:cNvSpPr/>
                        <p:nvPr/>
                      </p:nvSpPr>
                      <p:spPr>
                        <a:xfrm>
                          <a:off x="-827280" y="4005000"/>
                          <a:ext cx="289080" cy="289080"/>
                        </a:xfrm>
                        <a:prstGeom prst="ellipse">
                          <a:avLst/>
                        </a:prstGeom>
                        <a:solidFill>
                          <a:srgbClr val="00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347" name=""/>
                    <p:cNvSpPr/>
                    <p:nvPr/>
                  </p:nvSpPr>
                  <p:spPr>
                    <a:xfrm>
                      <a:off x="-1366200" y="4130280"/>
                      <a:ext cx="380160" cy="39024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48" name=""/>
                  <p:cNvSpPr/>
                  <p:nvPr/>
                </p:nvSpPr>
                <p:spPr>
                  <a:xfrm>
                    <a:off x="-1077480" y="4058280"/>
                    <a:ext cx="380160" cy="39024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200" spc="-1" strike="noStrike">
                        <a:solidFill>
                          <a:srgbClr val="ffff00"/>
                        </a:solidFill>
                        <a:latin typeface="Arial"/>
                      </a:rPr>
                      <a:t>+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aphicFrame>
        <p:nvGraphicFramePr>
          <p:cNvPr id="349" name=""/>
          <p:cNvGraphicFramePr/>
          <p:nvPr/>
        </p:nvGraphicFramePr>
        <p:xfrm>
          <a:off x="9612360" y="5157720"/>
          <a:ext cx="503280" cy="45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12360" y="5157720"/>
                    <a:ext cx="503280" cy="45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1" name=""/>
          <p:cNvGraphicFramePr/>
          <p:nvPr/>
        </p:nvGraphicFramePr>
        <p:xfrm>
          <a:off x="9612360" y="2852640"/>
          <a:ext cx="471600" cy="462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612360" y="2852640"/>
                    <a:ext cx="471600" cy="4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3" name=""/>
          <p:cNvSpPr/>
          <p:nvPr/>
        </p:nvSpPr>
        <p:spPr>
          <a:xfrm>
            <a:off x="4067280" y="2492280"/>
            <a:ext cx="1295280" cy="1035000"/>
          </a:xfrm>
          <a:prstGeom prst="irregularSeal1">
            <a:avLst/>
          </a:prstGeom>
          <a:solidFill>
            <a:srgbClr val="ffff00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4" name=""/>
              <p:cNvSpPr txBox="1"/>
              <p:nvPr/>
            </p:nvSpPr>
            <p:spPr>
              <a:xfrm>
                <a:off x="1979640" y="3716280"/>
                <a:ext cx="5143320" cy="8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t xml:space="preserve">6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C</m:t>
                    </m:r>
                    <m:r>
                      <m:t xml:space="preserve">→</m:t>
                    </m:r>
                    <m:sPre>
                      <m:sub>
                        <m:r>
                          <m:t xml:space="preserve">7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N</m:t>
                    </m:r>
                    <m:r>
                      <m:t xml:space="preserve">+</m:t>
                    </m:r>
                    <m:sPre>
                      <m:sub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0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e</m:t>
                    </m:r>
                    <m:r>
                      <m:t xml:space="preserve">+</m:t>
                    </m:r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υ</m:t>
                            </m:r>
                          </m:e>
                        </m:bar>
                      </m:e>
                      <m:sub>
                        <m:r>
                          <m:t xml:space="preserve">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55" name=""/>
          <p:cNvSpPr/>
          <p:nvPr/>
        </p:nvSpPr>
        <p:spPr>
          <a:xfrm>
            <a:off x="900000" y="4869000"/>
            <a:ext cx="766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During a beta + plus decay, a proton in an atom's nucleus turns into a neutron, a positron and a neutrin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6" name=""/>
              <p:cNvSpPr txBox="1"/>
              <p:nvPr/>
            </p:nvSpPr>
            <p:spPr>
              <a:xfrm>
                <a:off x="1979640" y="5734080"/>
                <a:ext cx="5256360" cy="79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t xml:space="preserve">6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C</m:t>
                    </m:r>
                    <m:r>
                      <m:t xml:space="preserve">→</m:t>
                    </m:r>
                    <m:sPre>
                      <m:sub>
                        <m:r>
                          <m:t xml:space="preserve">5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B</m:t>
                    </m:r>
                    <m:r>
                      <m:t xml:space="preserve">+</m:t>
                    </m:r>
                    <m:sPre>
                      <m: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0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e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υ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P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1E2AF2-F455-44DA-B74C-96C992647B2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0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sona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05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06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07" dur="3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2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500"/>
                            </p:stCondLst>
                            <p:childTnLst>
                              <p:par>
                                <p:cTn id="614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6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2000"/>
                            </p:stCondLst>
                            <p:childTnLst>
                              <p:par>
                                <p:cTn id="618" nodeType="afterEffect" fill="hold" presetClass="exit" presetID="4" presetSubtype="16">
                                  <p:stCondLst>
                                    <p:cond delay="100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19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3500"/>
                            </p:stCondLst>
                            <p:childTnLst>
                              <p:par>
                                <p:cTn id="622" nodeType="afterEffect" fill="hold" presetClass="path" presetID="35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-3.88889E-006 2.96296E-006 L -0.12395 2.96296E-006 E">
                                      <p:cBhvr>
                                        <p:cTn id="623" dur="2000" fill="hold"/>
                                        <p:tgtEl>
                                          <p:spTgt spid="3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4" nodeType="withEffect" fill="hold" presetClass="path" presetID="56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-0.5533 -0.01528 L -0.19097 -0.22246 E">
                                      <p:cBhvr>
                                        <p:cTn id="625" dur="2000" fill="hold"/>
                                        <p:tgtEl>
                                          <p:spTgt spid="3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6" nodeType="withEffect" fill="hold" presetClass="path" presetID="0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-0.53924 -0.34769 L -0.2007 -0.19075 E">
                                      <p:cBhvr>
                                        <p:cTn id="627" dur="2000" fill="hold"/>
                                        <p:tgtEl>
                                          <p:spTgt spid="3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o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34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2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2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7" name=""/>
          <p:cNvGraphicFramePr/>
          <p:nvPr/>
        </p:nvGraphicFramePr>
        <p:xfrm>
          <a:off x="1835280" y="907920"/>
          <a:ext cx="6192720" cy="433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907920"/>
                    <a:ext cx="6192720" cy="433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9" name=""/>
          <p:cNvSpPr/>
          <p:nvPr/>
        </p:nvSpPr>
        <p:spPr>
          <a:xfrm>
            <a:off x="395280" y="0"/>
            <a:ext cx="33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U 238 DECAY CH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6948360" y="981000"/>
            <a:ext cx="935280" cy="432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6895800" y="1465200"/>
            <a:ext cx="911160" cy="417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764480" y="890640"/>
            <a:ext cx="142920" cy="1443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948360" y="1442880"/>
            <a:ext cx="411120" cy="504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7372440" y="1447920"/>
            <a:ext cx="457200" cy="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750080" y="1365120"/>
            <a:ext cx="142920" cy="144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flipH="1">
            <a:off x="5978160" y="1916280"/>
            <a:ext cx="873000" cy="4269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827760" y="1830240"/>
            <a:ext cx="142920" cy="144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5076360" y="2349360"/>
            <a:ext cx="911160" cy="417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flipH="1">
            <a:off x="4142880" y="2781360"/>
            <a:ext cx="908280" cy="442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975200" y="2717640"/>
            <a:ext cx="142920" cy="144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flipH="1">
            <a:off x="3241800" y="3213000"/>
            <a:ext cx="901440" cy="484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4067280" y="3141720"/>
            <a:ext cx="142920" cy="1443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222720" y="3701880"/>
            <a:ext cx="449280" cy="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659040" y="3687840"/>
            <a:ext cx="439920" cy="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597120" y="3616200"/>
            <a:ext cx="142920" cy="144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 flipH="1">
            <a:off x="3276360" y="3716280"/>
            <a:ext cx="863640" cy="417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203640" y="4149720"/>
            <a:ext cx="439560" cy="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727440" y="4135320"/>
            <a:ext cx="439920" cy="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 flipH="1">
            <a:off x="3274560" y="4164120"/>
            <a:ext cx="863640" cy="417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160800" y="4508640"/>
            <a:ext cx="142920" cy="1443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848640" y="1370160"/>
            <a:ext cx="142560" cy="1443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7294680" y="1366920"/>
            <a:ext cx="142920" cy="1443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910120" y="2276640"/>
            <a:ext cx="142920" cy="1443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191040" y="3630600"/>
            <a:ext cx="142560" cy="1443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4070520" y="3629160"/>
            <a:ext cx="142560" cy="1443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174840" y="4081320"/>
            <a:ext cx="142920" cy="144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067280" y="4076640"/>
            <a:ext cx="142920" cy="1443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591000" y="4081320"/>
            <a:ext cx="142920" cy="144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468360" y="5589720"/>
            <a:ext cx="2735280" cy="581400"/>
            <a:chOff x="468360" y="5589720"/>
            <a:chExt cx="2735280" cy="581400"/>
          </a:xfrm>
        </p:grpSpPr>
        <p:sp>
          <p:nvSpPr>
            <p:cNvPr id="390" name=""/>
            <p:cNvSpPr/>
            <p:nvPr/>
          </p:nvSpPr>
          <p:spPr>
            <a:xfrm>
              <a:off x="2195640" y="5950080"/>
              <a:ext cx="100800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68360" y="5589720"/>
              <a:ext cx="1728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0000"/>
                  </a:solidFill>
                  <a:latin typeface="Arial"/>
                </a:rPr>
                <a:t>ALPH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3851280" y="5589720"/>
            <a:ext cx="2521080" cy="581400"/>
            <a:chOff x="3851280" y="5589720"/>
            <a:chExt cx="2521080" cy="581400"/>
          </a:xfrm>
        </p:grpSpPr>
        <p:sp>
          <p:nvSpPr>
            <p:cNvPr id="393" name=""/>
            <p:cNvSpPr/>
            <p:nvPr/>
          </p:nvSpPr>
          <p:spPr>
            <a:xfrm>
              <a:off x="3851280" y="5589720"/>
              <a:ext cx="1728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33cc"/>
                  </a:solidFill>
                  <a:latin typeface="Arial"/>
                </a:rPr>
                <a:t>BET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364000" y="5950080"/>
              <a:ext cx="1008360" cy="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P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0C40BB-57D1-4C21-8667-3A8BF5D158B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58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1000"/>
                            </p:stCondLst>
                            <p:childTnLst>
                              <p:par>
                                <p:cTn id="66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62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afterEffect" fill="hold" presetClass="entr" presetID="18" presetSubtype="1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0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1000"/>
                            </p:stCondLst>
                            <p:childTnLst>
                              <p:par>
                                <p:cTn id="67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1500"/>
                            </p:stCondLst>
                            <p:childTnLst>
                              <p:par>
                                <p:cTn id="675" nodeType="afterEffect" fill="hold" presetClass="entr" presetID="18" presetSubtype="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77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2500"/>
                            </p:stCondLst>
                            <p:childTnLst>
                              <p:par>
                                <p:cTn id="67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3000"/>
                            </p:stCondLst>
                            <p:childTnLst>
                              <p:par>
                                <p:cTn id="682" nodeType="afterEffect" fill="hold" presetClass="entr" presetID="18" presetSubtype="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84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4000"/>
                            </p:stCondLst>
                            <p:childTnLst>
                              <p:par>
                                <p:cTn id="68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fill="hold">
                            <p:stCondLst>
                              <p:cond delay="4500"/>
                            </p:stCondLst>
                            <p:childTnLst>
                              <p:par>
                                <p:cTn id="68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1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fill="hold">
                            <p:stCondLst>
                              <p:cond delay="5000"/>
                            </p:stCondLst>
                            <p:childTnLst>
                              <p:par>
                                <p:cTn id="6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5000"/>
                            </p:stCondLst>
                            <p:childTnLst>
                              <p:par>
                                <p:cTn id="69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8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5500"/>
                            </p:stCondLst>
                            <p:childTnLst>
                              <p:par>
                                <p:cTn id="70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6000"/>
                            </p:stCondLst>
                            <p:childTnLst>
                              <p:par>
                                <p:cTn id="70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5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6500"/>
                            </p:stCondLst>
                            <p:childTnLst>
                              <p:par>
                                <p:cTn id="7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6500"/>
                            </p:stCondLst>
                            <p:childTnLst>
                              <p:par>
                                <p:cTn id="71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12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7000"/>
                            </p:stCondLst>
                            <p:childTnLst>
                              <p:par>
                                <p:cTn id="7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7000"/>
                            </p:stCondLst>
                            <p:childTnLst>
                              <p:par>
                                <p:cTn id="71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19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7500"/>
                            </p:stCondLst>
                            <p:childTnLst>
                              <p:par>
                                <p:cTn id="7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7500"/>
                            </p:stCondLst>
                            <p:childTnLst>
                              <p:par>
                                <p:cTn id="724" nodeType="afterEffect" fill="hold" presetClass="entr" presetID="18" presetSubtype="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26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8500"/>
                            </p:stCondLst>
                            <p:childTnLst>
                              <p:par>
                                <p:cTn id="728" nodeType="afterEffect" fill="hold" presetClass="entr" presetID="18" presetSubtype="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30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fill="hold">
                            <p:stCondLst>
                              <p:cond delay="9500"/>
                            </p:stCondLst>
                            <p:childTnLst>
                              <p:par>
                                <p:cTn id="7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9500"/>
                            </p:stCondLst>
                            <p:childTnLst>
                              <p:par>
                                <p:cTn id="7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9500"/>
                            </p:stCondLst>
                            <p:childTnLst>
                              <p:par>
                                <p:cTn id="73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0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10000"/>
                            </p:stCondLst>
                            <p:childTnLst>
                              <p:par>
                                <p:cTn id="7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45" nodeType="afterEffect" fill="hold" presetClass="entr" presetID="18" presetSubtype="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47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11000"/>
                            </p:stCondLst>
                            <p:childTnLst>
                              <p:par>
                                <p:cTn id="7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11000"/>
                            </p:stCondLst>
                            <p:childTnLst>
                              <p:par>
                                <p:cTn id="752" nodeType="afterEffect" fill="hold" presetClass="entr" presetID="18" presetSubtype="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54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fill="hold">
                            <p:stCondLst>
                              <p:cond delay="12000"/>
                            </p:stCondLst>
                            <p:childTnLst>
                              <p:par>
                                <p:cTn id="7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12000"/>
                            </p:stCondLst>
                            <p:childTnLst>
                              <p:par>
                                <p:cTn id="75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61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fill="hold">
                            <p:stCondLst>
                              <p:cond delay="12500"/>
                            </p:stCondLst>
                            <p:childTnLst>
                              <p:par>
                                <p:cTn id="7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2050920" y="981000"/>
            <a:ext cx="5543640" cy="552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99ff"/>
                </a:solidFill>
                <a:latin typeface="Arial"/>
              </a:rPr>
              <a:t>U-238</a:t>
            </a:r>
            <a:r>
              <a:rPr b="1" lang="en-GB" sz="16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alpha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4.5 billion yea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9999"/>
                </a:solidFill>
                <a:latin typeface="Arial"/>
              </a:rPr>
              <a:t>Th-234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33cc"/>
                </a:solidFill>
                <a:latin typeface="Arial"/>
              </a:rPr>
              <a:t>beta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4 da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66ff"/>
                </a:solidFill>
                <a:latin typeface="Arial"/>
              </a:rPr>
              <a:t>Pa-234</a:t>
            </a:r>
            <a:r>
              <a:rPr b="1" lang="en-GB" sz="1600" spc="-1" strike="noStrike">
                <a:solidFill>
                  <a:srgbClr val="cc66f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33cc"/>
                </a:solidFill>
                <a:latin typeface="Arial"/>
              </a:rPr>
              <a:t>beta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.2 minu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99ff"/>
                </a:solidFill>
                <a:latin typeface="Arial"/>
              </a:rPr>
              <a:t>U-234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alpha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50 000 yea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9999"/>
                </a:solidFill>
                <a:latin typeface="Arial"/>
              </a:rPr>
              <a:t>Th-230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alpha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80 000 yea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ff"/>
                </a:solidFill>
                <a:latin typeface="Arial"/>
              </a:rPr>
              <a:t>Ra-226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alpha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600 yea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9933"/>
                </a:solidFill>
                <a:latin typeface="Arial"/>
              </a:rPr>
              <a:t>Rn-222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alpha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3.8 da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6600"/>
                </a:solidFill>
                <a:latin typeface="Arial"/>
              </a:rPr>
              <a:t>Po-218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alpha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3 minu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8080"/>
                </a:solidFill>
                <a:latin typeface="Arial"/>
              </a:rPr>
              <a:t>Pb-214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33cc"/>
                </a:solidFill>
                <a:latin typeface="Arial"/>
              </a:rPr>
              <a:t>beta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7 minu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ff"/>
                </a:solidFill>
                <a:latin typeface="Arial"/>
              </a:rPr>
              <a:t>Bi-214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33cc"/>
                </a:solidFill>
                <a:latin typeface="Arial"/>
              </a:rPr>
              <a:t>beta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0 minu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6600"/>
                </a:solidFill>
                <a:latin typeface="Arial"/>
              </a:rPr>
              <a:t>Po-214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alpha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0.0002 seco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8080"/>
                </a:solidFill>
                <a:latin typeface="Arial"/>
              </a:rPr>
              <a:t>Pb-210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33cc"/>
                </a:solidFill>
                <a:latin typeface="Arial"/>
              </a:rPr>
              <a:t>beta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0 yea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ff"/>
                </a:solidFill>
                <a:latin typeface="Arial"/>
              </a:rPr>
              <a:t>Bi-210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33cc"/>
                </a:solidFill>
                <a:latin typeface="Arial"/>
              </a:rPr>
              <a:t>beta</a:t>
            </a:r>
            <a:r>
              <a:rPr b="1" lang="en-GB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.6 million yea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6600"/>
                </a:solidFill>
                <a:latin typeface="Arial"/>
              </a:rPr>
              <a:t>Po-210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alpha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40 da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8080"/>
                </a:solidFill>
                <a:latin typeface="Arial"/>
              </a:rPr>
              <a:t>Pb-206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6600"/>
                </a:solidFill>
                <a:latin typeface="Arial"/>
              </a:rPr>
              <a:t>S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95280" y="26028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U 238 DECAY CHAIN  with emissions and half l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P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FCE455-443C-46F1-9F72-BFF5C93BD41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5" dur="indefinite" restart="never" nodeType="tmRoot">
          <p:childTnLst>
            <p:seq>
              <p:cTn id="766" dur="indefinite" nodeType="mainSeq">
                <p:childTnLst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73" dur="100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7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79" dur="1000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fill="hold">
                            <p:stCondLst>
                              <p:cond delay="2000"/>
                            </p:stCondLst>
                            <p:childTnLst>
                              <p:par>
                                <p:cTn id="78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85" dur="1000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3000"/>
                            </p:stCondLst>
                            <p:childTnLst>
                              <p:par>
                                <p:cTn id="78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91" dur="1000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4000"/>
                            </p:stCondLst>
                            <p:childTnLst>
                              <p:par>
                                <p:cTn id="79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97" dur="1000"/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fill="hold">
                            <p:stCondLst>
                              <p:cond delay="5000"/>
                            </p:stCondLst>
                            <p:childTnLst>
                              <p:par>
                                <p:cTn id="79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03" dur="1000"/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fill="hold">
                            <p:stCondLst>
                              <p:cond delay="6000"/>
                            </p:stCondLst>
                            <p:childTnLst>
                              <p:par>
                                <p:cTn id="80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09" dur="1000"/>
                                        <p:tgtEl>
                                          <p:spTgt spid="3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7000"/>
                            </p:stCondLst>
                            <p:childTnLst>
                              <p:par>
                                <p:cTn id="81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15" dur="1000"/>
                                        <p:tgtEl>
                                          <p:spTgt spid="3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8000"/>
                            </p:stCondLst>
                            <p:childTnLst>
                              <p:par>
                                <p:cTn id="81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21" dur="1000"/>
                                        <p:tgtEl>
                                          <p:spTgt spid="3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9000"/>
                            </p:stCondLst>
                            <p:childTnLst>
                              <p:par>
                                <p:cTn id="82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27" dur="1000"/>
                                        <p:tgtEl>
                                          <p:spTgt spid="3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10000"/>
                            </p:stCondLst>
                            <p:childTnLst>
                              <p:par>
                                <p:cTn id="82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33" dur="1000"/>
                                        <p:tgtEl>
                                          <p:spTgt spid="3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fill="hold">
                            <p:stCondLst>
                              <p:cond delay="11000"/>
                            </p:stCondLst>
                            <p:childTnLst>
                              <p:par>
                                <p:cTn id="83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39" dur="1000"/>
                                        <p:tgtEl>
                                          <p:spTgt spid="3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fill="hold">
                            <p:stCondLst>
                              <p:cond delay="12000"/>
                            </p:stCondLst>
                            <p:childTnLst>
                              <p:par>
                                <p:cTn id="84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45" dur="1000"/>
                                        <p:tgtEl>
                                          <p:spTgt spid="3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fill="hold">
                            <p:stCondLst>
                              <p:cond delay="13000"/>
                            </p:stCondLst>
                            <p:childTnLst>
                              <p:par>
                                <p:cTn id="84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51" dur="1000"/>
                                        <p:tgtEl>
                                          <p:spTgt spid="39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fill="hold">
                            <p:stCondLst>
                              <p:cond delay="14000"/>
                            </p:stCondLst>
                            <p:childTnLst>
                              <p:par>
                                <p:cTn id="85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57" dur="1000"/>
                                        <p:tgtEl>
                                          <p:spTgt spid="39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-757080" y="4704840"/>
            <a:ext cx="502920" cy="412200"/>
          </a:xfrm>
          <a:prstGeom prst="ellipse">
            <a:avLst/>
          </a:prstGeom>
          <a:solidFill>
            <a:srgbClr val="00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0000"/>
                </a:solidFill>
                <a:latin typeface="Symbol"/>
                <a:ea typeface="Symbol"/>
              </a:rPr>
              <a:t>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>
            <a:off x="-757080" y="1916280"/>
            <a:ext cx="576000" cy="57600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/>
          <p:nvPr/>
        </p:nvSpPr>
        <p:spPr>
          <a:xfrm>
            <a:off x="7093080" y="1628640"/>
            <a:ext cx="1366560" cy="4105440"/>
          </a:xfrm>
          <a:prstGeom prst="rect">
            <a:avLst/>
          </a:prstGeom>
          <a:solidFill>
            <a:srgbClr val="80808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-900000" y="2766960"/>
            <a:ext cx="503280" cy="390240"/>
          </a:xfrm>
          <a:prstGeom prst="ellipse">
            <a:avLst/>
          </a:prstGeom>
          <a:solidFill>
            <a:srgbClr val="a2f6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1" lang="en-GB" sz="1200" spc="-1" strike="noStrike" baseline="30000">
                <a:solidFill>
                  <a:srgbClr val="ff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4500720" y="1628640"/>
            <a:ext cx="576000" cy="4105440"/>
          </a:xfrm>
          <a:prstGeom prst="rect">
            <a:avLst/>
          </a:prstGeom>
          <a:blipFill rotWithShape="0">
            <a:blip r:embed="rId2">
              <a:alphaModFix amt="40000"/>
            </a:blip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724360" y="1628640"/>
            <a:ext cx="1008360" cy="4105440"/>
          </a:xfrm>
          <a:prstGeom prst="rect">
            <a:avLst/>
          </a:prstGeom>
          <a:solidFill>
            <a:srgbClr val="dddddd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-503280" y="4922280"/>
            <a:ext cx="503280" cy="412200"/>
          </a:xfrm>
          <a:prstGeom prst="ellipse">
            <a:avLst/>
          </a:prstGeom>
          <a:solidFill>
            <a:srgbClr val="00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0000"/>
                </a:solidFill>
                <a:latin typeface="Symbol"/>
                <a:ea typeface="Symbol"/>
              </a:rPr>
              <a:t>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-934920" y="5138640"/>
            <a:ext cx="503280" cy="412200"/>
          </a:xfrm>
          <a:prstGeom prst="ellipse">
            <a:avLst/>
          </a:prstGeom>
          <a:solidFill>
            <a:srgbClr val="00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0000"/>
                </a:solidFill>
                <a:latin typeface="Symbol"/>
                <a:ea typeface="Symbol"/>
              </a:rPr>
              <a:t>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-541440" y="4921200"/>
            <a:ext cx="503280" cy="412200"/>
          </a:xfrm>
          <a:prstGeom prst="ellipse">
            <a:avLst/>
          </a:prstGeom>
          <a:solidFill>
            <a:srgbClr val="00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0000"/>
                </a:solidFill>
                <a:latin typeface="Symbol"/>
                <a:ea typeface="Symbol"/>
              </a:rPr>
              <a:t>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4140360" y="981000"/>
            <a:ext cx="1135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paper she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981000"/>
            <a:ext cx="129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ff"/>
                </a:solidFill>
                <a:latin typeface="Arial"/>
              </a:rPr>
              <a:t>2mm of Alumini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164360" y="692280"/>
            <a:ext cx="1135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everal cm of le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P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5161C0-4DD3-4334-AFD8-C530DD972D0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8" dur="indefinite" restart="never" nodeType="tmRoot">
          <p:childTnLst>
            <p:seq>
              <p:cTn id="859" dur="indefinite" nodeType="mainSeq">
                <p:childTnLst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66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fill="hold">
                            <p:stCondLst>
                              <p:cond delay="1000"/>
                            </p:stCondLst>
                            <p:childTnLst>
                              <p:par>
                                <p:cTn id="86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72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fill="hold">
                            <p:stCondLst>
                              <p:cond delay="2000"/>
                            </p:stCondLst>
                            <p:childTnLst>
                              <p:par>
                                <p:cTn id="87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78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path" presetID="63" repeatCount="3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oing.wav"/>
                                        </p:tgtEl>
                                      </p:cMediaNode>
                                    </p:audio>
                                    <p:animMotion origin="layout" path="M -4.72222E-006 3.7037E-006 L 0.575 -0.00162 E">
                                      <p:cBhvr>
                                        <p:cTn id="882" dur="2000" fill="hold"/>
                                        <p:tgtEl>
                                          <p:spTgt spid="3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path" presetID="63" repeatCount="4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onar.wav"/>
                                        </p:tgtEl>
                                      </p:cMediaNode>
                                    </p:audio>
                                    <p:animMotion origin="layout" path="M 3.88889E-006 2.22222E-006 L 0.74027 -0.00162 E">
                                      <p:cBhvr>
                                        <p:cTn id="886" dur="2000" fill="hold"/>
                                        <p:tgtEl>
                                          <p:spTgt spid="4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path" presetID="63" repeatCount="2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arning.wav"/>
                                        </p:tgtEl>
                                      </p:cMediaNode>
                                    </p:audio>
                                    <p:animMotion origin="layout" path="M -0.00399 0.00463 L 0.89774 0.00926 E">
                                      <p:cBhvr>
                                        <p:cTn id="890" dur="2000" fill="hold"/>
                                        <p:tgtEl>
                                          <p:spTgt spid="3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1" nodeType="withEffect" fill="hold" presetClass="path" presetID="63" repeatCount="3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arning.wav"/>
                                        </p:tgtEl>
                                      </p:cMediaNode>
                                    </p:audio>
                                    <p:animMotion origin="layout" path="M 5.55556E-007 4.81481E-006 L 1.09444 0.00439 E">
                                      <p:cBhvr>
                                        <p:cTn id="892" dur="2000" fill="hold"/>
                                        <p:tgtEl>
                                          <p:spTgt spid="4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3" nodeType="withEffect" fill="hold" presetClass="path" presetID="63" repeatCount="2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arning.wav"/>
                                        </p:tgtEl>
                                      </p:cMediaNode>
                                    </p:audio>
                                    <p:animMotion origin="layout" path="M -1.66667E-006 -2.22222E-006 L 0.90174 0.00463 E">
                                      <p:cBhvr>
                                        <p:cTn id="894" dur="2000" fill="hold"/>
                                        <p:tgtEl>
                                          <p:spTgt spid="4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5" fill="hold">
                            <p:stCondLst>
                              <p:cond delay="6000"/>
                            </p:stCondLst>
                            <p:childTnLst>
                              <p:par>
                                <p:cTn id="896" nodeType="afterEffect" fill="hold" presetClass="path" presetID="63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arning.wav"/>
                                        </p:tgtEl>
                                      </p:cMediaNode>
                                    </p:audio>
                                    <p:animMotion origin="layout" path="M -0.00399 0.00463 L 0.89774 0.00926 E">
                                      <p:cBhvr>
                                        <p:cTn id="897" dur="2000" fill="hold"/>
                                        <p:tgtEl>
                                          <p:spTgt spid="4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8028000" y="0"/>
            <a:ext cx="625320" cy="584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74160" y="112680"/>
            <a:ext cx="60814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ANGE OF PARTICLES IN 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39680" y="863640"/>
            <a:ext cx="2736720" cy="8254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ALPHA RAD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2411280" y="836640"/>
            <a:ext cx="6553440" cy="161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HAS A RANGE OF A FEW CM IN AIR: BECAUSE THE PARTICLES ARE CHARGED AND RELATIVELY MASSIVE, THEY INTERACT WITH AIR MOLECULES, PRODUCING UP TO 200 000 ION PAIRS PER CM OF TRA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79280" y="2708280"/>
            <a:ext cx="2737080" cy="9471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BETA RAD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2556000" y="2852640"/>
            <a:ext cx="583236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ETA PARTICLES HAVE A RANGE OF A FEW METRES IN 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90440" y="3970440"/>
            <a:ext cx="2737080" cy="9471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AMMA RAD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2987640" y="4292640"/>
            <a:ext cx="4032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HAS UNLIMITED RANGE IN 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79280" y="5084640"/>
            <a:ext cx="2737080" cy="9471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NEUTRON RAD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2987640" y="5300640"/>
            <a:ext cx="41338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EHAVES SIMILAR TO GAM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P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AF935B-F59F-4388-89EE-10801BF6C2D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8" dur="indefinite" restart="never" nodeType="tmRoot">
          <p:childTnLst>
            <p:seq>
              <p:cTn id="899" dur="indefinite" nodeType="mainSeq">
                <p:childTnLst>
                  <p:par>
                    <p:cTn id="900" fill="hold">
                      <p:stCondLst>
                        <p:cond delay="0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afterEffect" fill="hold" presetClass="entr" presetID="4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04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fill="hold">
                            <p:stCondLst>
                              <p:cond delay="1000"/>
                            </p:stCondLst>
                            <p:childTnLst>
                              <p:par>
                                <p:cTn id="906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68360" y="260280"/>
            <a:ext cx="820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ccff"/>
                </a:solidFill>
                <a:uFillTx/>
                <a:latin typeface="Arial"/>
              </a:rPr>
              <a:t>1896</a:t>
            </a:r>
            <a:r>
              <a:rPr b="1" lang="en-US" sz="2400" spc="-1" strike="noStrike">
                <a:solidFill>
                  <a:srgbClr val="00ccff"/>
                </a:solidFill>
                <a:latin typeface="Arial"/>
              </a:rPr>
              <a:t>: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Becquerel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accidentally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discovered that uranyl crystals emitted invisible radiation when they exposed an enclosed photographic p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2700360" y="2133720"/>
            <a:ext cx="2531160" cy="1258920"/>
            <a:chOff x="2700360" y="2133720"/>
            <a:chExt cx="2531160" cy="1258920"/>
          </a:xfrm>
        </p:grpSpPr>
        <p:pic>
          <p:nvPicPr>
            <p:cNvPr id="67" name="" descr=""/>
            <p:cNvPicPr/>
            <p:nvPr/>
          </p:nvPicPr>
          <p:blipFill>
            <a:blip r:embed="rId1"/>
            <a:stretch/>
          </p:blipFill>
          <p:spPr>
            <a:xfrm>
              <a:off x="2700360" y="2133720"/>
              <a:ext cx="1368720" cy="125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3708000" y="2492640"/>
              <a:ext cx="152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 </a:t>
              </a:r>
              <a:r>
                <a:rPr b="1" lang="en-US" sz="2000" spc="-1" strike="noStrike" u="sng">
                  <a:solidFill>
                    <a:srgbClr val="ff0000"/>
                  </a:solidFill>
                  <a:uFillTx/>
                  <a:latin typeface="Arial"/>
                </a:rPr>
                <a:t>uranyl sal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2124000" y="3141720"/>
            <a:ext cx="2519280" cy="647640"/>
            <a:chOff x="2124000" y="3141720"/>
            <a:chExt cx="2519280" cy="647640"/>
          </a:xfrm>
        </p:grpSpPr>
        <p:sp>
          <p:nvSpPr>
            <p:cNvPr id="70" name=""/>
            <p:cNvSpPr/>
            <p:nvPr/>
          </p:nvSpPr>
          <p:spPr>
            <a:xfrm>
              <a:off x="2124000" y="3141720"/>
              <a:ext cx="2519280" cy="64764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96880" y="3371760"/>
              <a:ext cx="2015640" cy="144720"/>
            </a:xfrm>
            <a:prstGeom prst="rect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4211280" y="2349360"/>
            <a:ext cx="3743640" cy="1008360"/>
            <a:chOff x="4211280" y="2349360"/>
            <a:chExt cx="3743640" cy="1008360"/>
          </a:xfrm>
        </p:grpSpPr>
        <p:sp>
          <p:nvSpPr>
            <p:cNvPr id="73" name=""/>
            <p:cNvSpPr/>
            <p:nvPr/>
          </p:nvSpPr>
          <p:spPr>
            <a:xfrm flipH="1">
              <a:off x="4211280" y="2781360"/>
              <a:ext cx="1873080" cy="576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867280" y="2349360"/>
              <a:ext cx="2087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00"/>
                  </a:solidFill>
                  <a:latin typeface="Arial"/>
                </a:rPr>
                <a:t>Photographic fil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2916360" y="2781360"/>
            <a:ext cx="838080" cy="5428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4788000" y="3573360"/>
            <a:ext cx="4356000" cy="32846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2771640" y="5805360"/>
            <a:ext cx="237672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Becquerel’s No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P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F11947-5226-471C-9324-B455AA4A287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2" presetSubtype="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500"/>
                            </p:stCondLst>
                            <p:childTnLst>
                              <p:par>
                                <p:cTn id="81" nodeType="afterEffect" fill="hold" presetClass="entr" presetID="2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4000"/>
                            </p:stCondLst>
                            <p:childTnLst>
                              <p:par>
                                <p:cTn id="98" nodeType="afterEffect" fill="hold" presetClass="entr" presetID="18" presetSubtype="6">
                                  <p:stCondLst>
                                    <p:cond delay="2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geig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55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684360" y="2492280"/>
            <a:ext cx="633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ff99"/>
                </a:solidFill>
                <a:uFillTx/>
                <a:latin typeface="Arial"/>
              </a:rPr>
              <a:t>1898</a:t>
            </a:r>
            <a:r>
              <a:rPr b="1" lang="en-US" sz="2400" spc="-1" strike="noStrike">
                <a:solidFill>
                  <a:srgbClr val="00ff99"/>
                </a:solidFill>
                <a:latin typeface="Arial"/>
              </a:rPr>
              <a:t>: Marie and Pierre </a:t>
            </a:r>
            <a:r>
              <a:rPr b="1" lang="en-US" sz="2400" spc="-1" strike="noStrike" u="sng">
                <a:solidFill>
                  <a:srgbClr val="00ff99"/>
                </a:solidFill>
                <a:uFillTx/>
                <a:latin typeface="Arial"/>
              </a:rPr>
              <a:t>Curie</a:t>
            </a:r>
            <a:r>
              <a:rPr b="1" lang="en-US" sz="2400" spc="-1" strike="noStrike">
                <a:solidFill>
                  <a:srgbClr val="00ff99"/>
                </a:solidFill>
                <a:latin typeface="Arial"/>
              </a:rPr>
              <a:t> discovered </a:t>
            </a:r>
            <a:r>
              <a:rPr b="1" lang="en-US" sz="2400" spc="-1" strike="noStrike" u="sng">
                <a:solidFill>
                  <a:srgbClr val="00ff99"/>
                </a:solidFill>
                <a:uFillTx/>
                <a:latin typeface="Arial"/>
              </a:rPr>
              <a:t>polonium</a:t>
            </a:r>
            <a:r>
              <a:rPr b="1" lang="en-US" sz="2400" spc="-1" strike="noStrike">
                <a:solidFill>
                  <a:srgbClr val="00ff99"/>
                </a:solidFill>
                <a:latin typeface="Arial"/>
              </a:rPr>
              <a:t> (Z=84) and </a:t>
            </a:r>
            <a:r>
              <a:rPr b="1" lang="en-US" sz="2400" spc="-1" strike="noStrike" u="sng">
                <a:solidFill>
                  <a:srgbClr val="00ff99"/>
                </a:solidFill>
                <a:uFillTx/>
                <a:latin typeface="Arial"/>
              </a:rPr>
              <a:t>radium</a:t>
            </a:r>
            <a:r>
              <a:rPr b="1" lang="en-US" sz="2400" spc="-1" strike="noStrike">
                <a:solidFill>
                  <a:srgbClr val="00ff99"/>
                </a:solidFill>
                <a:latin typeface="Arial"/>
              </a:rPr>
              <a:t> (Z = 88), two new radioac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79640" y="620640"/>
            <a:ext cx="403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Marie Curie discovered that 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thorium,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(Z=9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was a radioactive e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6443640" y="189000"/>
            <a:ext cx="2090880" cy="1930320"/>
            <a:chOff x="6443640" y="189000"/>
            <a:chExt cx="2090880" cy="1930320"/>
          </a:xfrm>
        </p:grpSpPr>
        <p:graphicFrame>
          <p:nvGraphicFramePr>
            <p:cNvPr id="81" name=""/>
            <p:cNvGraphicFramePr/>
            <p:nvPr/>
          </p:nvGraphicFramePr>
          <p:xfrm>
            <a:off x="6443640" y="189000"/>
            <a:ext cx="2090880" cy="1930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443640" y="189000"/>
                      <a:ext cx="2090880" cy="193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3" name=""/>
            <p:cNvSpPr/>
            <p:nvPr/>
          </p:nvSpPr>
          <p:spPr>
            <a:xfrm>
              <a:off x="6659640" y="239400"/>
              <a:ext cx="143964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0000"/>
                  </a:solidFill>
                  <a:latin typeface="Arial"/>
                </a:rPr>
                <a:t>90 thoriu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4284720" y="4005360"/>
            <a:ext cx="2231640" cy="2647440"/>
            <a:chOff x="4284720" y="4005360"/>
            <a:chExt cx="2231640" cy="2647440"/>
          </a:xfrm>
        </p:grpSpPr>
        <p:graphicFrame>
          <p:nvGraphicFramePr>
            <p:cNvPr id="85" name=""/>
            <p:cNvGraphicFramePr/>
            <p:nvPr/>
          </p:nvGraphicFramePr>
          <p:xfrm>
            <a:off x="4284720" y="4005360"/>
            <a:ext cx="2231640" cy="20192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284720" y="4005360"/>
                      <a:ext cx="2231640" cy="2019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7" name=""/>
            <p:cNvSpPr/>
            <p:nvPr/>
          </p:nvSpPr>
          <p:spPr>
            <a:xfrm>
              <a:off x="4597920" y="6021360"/>
              <a:ext cx="1647000" cy="631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0000"/>
                  </a:solidFill>
                  <a:latin typeface="Arial"/>
                </a:rPr>
                <a:t>radium 88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0000"/>
                  </a:solidFill>
                  <a:latin typeface="Arial"/>
                </a:rPr>
                <a:t>as pai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Madame Marie Curie"/>
          <p:cNvPicPr/>
          <p:nvPr/>
        </p:nvPicPr>
        <p:blipFill>
          <a:blip r:embed="rId5"/>
          <a:stretch/>
        </p:blipFill>
        <p:spPr>
          <a:xfrm>
            <a:off x="6948360" y="2349360"/>
            <a:ext cx="1643040" cy="1873440"/>
          </a:xfrm>
          <a:prstGeom prst="rect">
            <a:avLst/>
          </a:prstGeom>
          <a:ln w="0">
            <a:noFill/>
          </a:ln>
        </p:spPr>
      </p:pic>
      <p:grpSp>
        <p:nvGrpSpPr>
          <p:cNvPr id="89" name=""/>
          <p:cNvGrpSpPr/>
          <p:nvPr/>
        </p:nvGrpSpPr>
        <p:grpSpPr>
          <a:xfrm>
            <a:off x="250920" y="189000"/>
            <a:ext cx="1517400" cy="2146320"/>
            <a:chOff x="250920" y="189000"/>
            <a:chExt cx="1517400" cy="2146320"/>
          </a:xfrm>
        </p:grpSpPr>
        <p:pic>
          <p:nvPicPr>
            <p:cNvPr id="90" name="" descr=""/>
            <p:cNvPicPr/>
            <p:nvPr/>
          </p:nvPicPr>
          <p:blipFill>
            <a:blip r:embed="rId6"/>
            <a:stretch/>
          </p:blipFill>
          <p:spPr>
            <a:xfrm>
              <a:off x="250920" y="189000"/>
              <a:ext cx="1517400" cy="214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519480" y="1967040"/>
              <a:ext cx="103248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1867-193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1547640" y="4221000"/>
            <a:ext cx="2049480" cy="2060640"/>
            <a:chOff x="1547640" y="4221000"/>
            <a:chExt cx="2049480" cy="2060640"/>
          </a:xfrm>
        </p:grpSpPr>
        <p:graphicFrame>
          <p:nvGraphicFramePr>
            <p:cNvPr id="93" name=""/>
            <p:cNvGraphicFramePr/>
            <p:nvPr/>
          </p:nvGraphicFramePr>
          <p:xfrm>
            <a:off x="1547640" y="4221000"/>
            <a:ext cx="2049480" cy="20606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94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547640" y="4221000"/>
                      <a:ext cx="2049480" cy="2060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5" name=""/>
            <p:cNvSpPr/>
            <p:nvPr/>
          </p:nvSpPr>
          <p:spPr>
            <a:xfrm>
              <a:off x="1886040" y="5910120"/>
              <a:ext cx="136836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0000"/>
                  </a:solidFill>
                  <a:latin typeface="Arial"/>
                </a:rPr>
                <a:t>84 poloniu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P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A79A49-79CC-4ACF-BB34-D19E8C9AE78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4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500"/>
                            </p:stCondLst>
                            <p:childTnLst>
                              <p:par>
                                <p:cTn id="12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arn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550"/>
                            </p:stCondLst>
                            <p:childTnLst>
                              <p:par>
                                <p:cTn id="153" nodeType="afterEffect" fill="hold" presetClass="entr" presetID="8" presetSubtype="16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warn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5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4050"/>
                            </p:stCondLst>
                            <p:childTnLst>
                              <p:par>
                                <p:cTn id="157" nodeType="afterEffect" fill="hold" presetClass="entr" presetID="8" presetSubtype="1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warn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9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4932360" y="4653000"/>
            <a:ext cx="1750680" cy="1407600"/>
            <a:chOff x="4932360" y="4653000"/>
            <a:chExt cx="1750680" cy="1407600"/>
          </a:xfrm>
        </p:grpSpPr>
        <p:grpSp>
          <p:nvGrpSpPr>
            <p:cNvPr id="97" name=""/>
            <p:cNvGrpSpPr/>
            <p:nvPr/>
          </p:nvGrpSpPr>
          <p:grpSpPr>
            <a:xfrm>
              <a:off x="5024520" y="4997520"/>
              <a:ext cx="1542960" cy="1063080"/>
              <a:chOff x="5024520" y="4997520"/>
              <a:chExt cx="1542960" cy="106308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5024520" y="4997520"/>
                <a:ext cx="1542960" cy="1063080"/>
                <a:chOff x="5024520" y="4997520"/>
                <a:chExt cx="1542960" cy="1063080"/>
              </a:xfrm>
            </p:grpSpPr>
            <p:grpSp>
              <p:nvGrpSpPr>
                <p:cNvPr id="99" name=""/>
                <p:cNvGrpSpPr/>
                <p:nvPr/>
              </p:nvGrpSpPr>
              <p:grpSpPr>
                <a:xfrm>
                  <a:off x="5024520" y="5055840"/>
                  <a:ext cx="1542960" cy="1004760"/>
                  <a:chOff x="5024520" y="5055840"/>
                  <a:chExt cx="1542960" cy="1004760"/>
                </a:xfrm>
              </p:grpSpPr>
              <p:sp>
                <p:nvSpPr>
                  <p:cNvPr id="100" name=""/>
                  <p:cNvSpPr/>
                  <p:nvPr/>
                </p:nvSpPr>
                <p:spPr>
                  <a:xfrm>
                    <a:off x="5024520" y="5055840"/>
                    <a:ext cx="1542960" cy="1004760"/>
                  </a:xfrm>
                  <a:prstGeom prst="rect">
                    <a:avLst/>
                  </a:prstGeom>
                  <a:solidFill>
                    <a:srgbClr val="808080"/>
                  </a:solidFill>
                  <a:ln w="57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>
                    <a:off x="5214600" y="5236920"/>
                    <a:ext cx="1172880" cy="650160"/>
                  </a:xfrm>
                  <a:prstGeom prst="rect">
                    <a:avLst/>
                  </a:prstGeom>
                  <a:solidFill>
                    <a:srgbClr val="ffffff"/>
                  </a:solidFill>
                  <a:ln w="57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2" name=""/>
                <p:cNvSpPr/>
                <p:nvPr/>
              </p:nvSpPr>
              <p:spPr>
                <a:xfrm>
                  <a:off x="5703120" y="4997520"/>
                  <a:ext cx="231120" cy="2955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aphicFrame>
            <p:nvGraphicFramePr>
              <p:cNvPr id="103" name=""/>
              <p:cNvGraphicFramePr/>
              <p:nvPr/>
            </p:nvGraphicFramePr>
            <p:xfrm>
              <a:off x="5606280" y="5641200"/>
              <a:ext cx="436680" cy="20988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4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5606280" y="5641200"/>
                        <a:ext cx="436680" cy="209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105" name=""/>
            <p:cNvGrpSpPr/>
            <p:nvPr/>
          </p:nvGrpSpPr>
          <p:grpSpPr>
            <a:xfrm>
              <a:off x="4932360" y="4653000"/>
              <a:ext cx="1750680" cy="142920"/>
              <a:chOff x="4932360" y="4653000"/>
              <a:chExt cx="1750680" cy="142920"/>
            </a:xfrm>
          </p:grpSpPr>
          <p:sp>
            <p:nvSpPr>
              <p:cNvPr id="106" name=""/>
              <p:cNvSpPr/>
              <p:nvPr/>
            </p:nvSpPr>
            <p:spPr>
              <a:xfrm>
                <a:off x="4932360" y="4653000"/>
                <a:ext cx="795600" cy="14292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887440" y="4653000"/>
                <a:ext cx="795600" cy="14292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8" name=""/>
          <p:cNvGrpSpPr/>
          <p:nvPr/>
        </p:nvGrpSpPr>
        <p:grpSpPr>
          <a:xfrm>
            <a:off x="5867280" y="4220640"/>
            <a:ext cx="0" cy="1439640"/>
            <a:chOff x="5867280" y="4220640"/>
            <a:chExt cx="0" cy="1439640"/>
          </a:xfrm>
        </p:grpSpPr>
        <p:sp>
          <p:nvSpPr>
            <p:cNvPr id="109" name=""/>
            <p:cNvSpPr/>
            <p:nvPr/>
          </p:nvSpPr>
          <p:spPr>
            <a:xfrm flipV="1">
              <a:off x="5867280" y="4407840"/>
              <a:ext cx="0" cy="12524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flipV="1">
              <a:off x="5867280" y="4220640"/>
              <a:ext cx="0" cy="250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5796000" y="1628640"/>
            <a:ext cx="2453760" cy="4640040"/>
            <a:chOff x="5796000" y="1628640"/>
            <a:chExt cx="2453760" cy="4640040"/>
          </a:xfrm>
        </p:grpSpPr>
        <p:sp>
          <p:nvSpPr>
            <p:cNvPr id="112" name=""/>
            <p:cNvSpPr/>
            <p:nvPr/>
          </p:nvSpPr>
          <p:spPr>
            <a:xfrm flipH="1">
              <a:off x="5796000" y="2255040"/>
              <a:ext cx="2453760" cy="4013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680" y="721"/>
                  </a:moveTo>
                  <a:arcTo wR="10800" hR="10800" stAng="-4136610" swAng="41366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4680" y="721"/>
                  </a:moveTo>
                  <a:arcTo wR="10800" hR="10800" stAng="-4136610" swAng="4136610"/>
                </a:path>
              </a:pathLst>
            </a:custGeom>
            <a:noFill/>
            <a:ln w="57240">
              <a:solidFill>
                <a:srgbClr val="000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6545160" y="1628640"/>
              <a:ext cx="1008000" cy="79200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3967200" y="1699920"/>
            <a:ext cx="1828440" cy="4929480"/>
            <a:chOff x="3967200" y="1699920"/>
            <a:chExt cx="1828440" cy="4929480"/>
          </a:xfrm>
        </p:grpSpPr>
        <p:sp>
          <p:nvSpPr>
            <p:cNvPr id="115" name=""/>
            <p:cNvSpPr/>
            <p:nvPr/>
          </p:nvSpPr>
          <p:spPr>
            <a:xfrm>
              <a:off x="3967200" y="2002680"/>
              <a:ext cx="1828440" cy="4626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427" y="1041"/>
                  </a:moveTo>
                  <a:arcTo wR="10800" hR="10800" stAng="-3878030" swAng="3878030"/>
                  <a:lnTo>
                    <a:pt x="10800" y="10800"/>
                  </a:lnTo>
                  <a:close/>
                </a:path>
                <a:path fill="none" w="21600" h="21600">
                  <a:moveTo>
                    <a:pt x="15427" y="1041"/>
                  </a:moveTo>
                  <a:arcTo wR="10800" hR="10800" stAng="-3878030" swAng="3878030"/>
                </a:path>
              </a:pathLst>
            </a:custGeom>
            <a:noFill/>
            <a:ln w="5724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 flipV="1">
              <a:off x="4787640" y="1699920"/>
              <a:ext cx="546120" cy="5871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5790960" y="1660680"/>
            <a:ext cx="5040" cy="2489040"/>
            <a:chOff x="5790960" y="1660680"/>
            <a:chExt cx="5040" cy="2489040"/>
          </a:xfrm>
        </p:grpSpPr>
        <p:sp>
          <p:nvSpPr>
            <p:cNvPr id="118" name=""/>
            <p:cNvSpPr/>
            <p:nvPr/>
          </p:nvSpPr>
          <p:spPr>
            <a:xfrm flipV="1">
              <a:off x="5796000" y="2133720"/>
              <a:ext cx="0" cy="201600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 flipV="1">
              <a:off x="5790960" y="1660680"/>
              <a:ext cx="4680" cy="47304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5940000" y="5084640"/>
            <a:ext cx="2592360" cy="649080"/>
            <a:chOff x="5940000" y="5084640"/>
            <a:chExt cx="2592360" cy="649080"/>
          </a:xfrm>
        </p:grpSpPr>
        <p:sp>
          <p:nvSpPr>
            <p:cNvPr id="121" name=""/>
            <p:cNvSpPr/>
            <p:nvPr/>
          </p:nvSpPr>
          <p:spPr>
            <a:xfrm flipH="1">
              <a:off x="5940000" y="5261400"/>
              <a:ext cx="1778760" cy="472320"/>
            </a:xfrm>
            <a:prstGeom prst="line">
              <a:avLst/>
            </a:prstGeom>
            <a:ln w="38160">
              <a:solidFill>
                <a:srgbClr val="ff00ff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570440" y="5084640"/>
              <a:ext cx="961920" cy="58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00ff"/>
                  </a:solidFill>
                  <a:latin typeface="Arial"/>
                </a:rPr>
                <a:t>radium sour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4932360" y="6021360"/>
            <a:ext cx="172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Lead bo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6516360" y="4437000"/>
            <a:ext cx="2303640" cy="580680"/>
            <a:chOff x="6516360" y="4437000"/>
            <a:chExt cx="2303640" cy="580680"/>
          </a:xfrm>
        </p:grpSpPr>
        <p:sp>
          <p:nvSpPr>
            <p:cNvPr id="125" name=""/>
            <p:cNvSpPr/>
            <p:nvPr/>
          </p:nvSpPr>
          <p:spPr>
            <a:xfrm>
              <a:off x="7093080" y="4437000"/>
              <a:ext cx="1726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Lead collimating sl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6516360" y="4653000"/>
              <a:ext cx="934920" cy="7128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4500720" y="2133720"/>
            <a:ext cx="4176720" cy="2089080"/>
            <a:chOff x="4500720" y="2133720"/>
            <a:chExt cx="4176720" cy="2089080"/>
          </a:xfrm>
        </p:grpSpPr>
        <p:sp>
          <p:nvSpPr>
            <p:cNvPr id="128" name=""/>
            <p:cNvSpPr/>
            <p:nvPr/>
          </p:nvSpPr>
          <p:spPr>
            <a:xfrm>
              <a:off x="4500720" y="2133720"/>
              <a:ext cx="2519280" cy="2089080"/>
            </a:xfrm>
            <a:prstGeom prst="ellipse">
              <a:avLst/>
            </a:prstGeom>
            <a:noFill/>
            <a:ln w="57240">
              <a:solidFill>
                <a:srgbClr val="99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948360" y="2997360"/>
              <a:ext cx="1729080" cy="58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993300"/>
                  </a:solidFill>
                  <a:latin typeface="Arial"/>
                </a:rPr>
                <a:t>Magnetic field acting inward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51280" y="1052640"/>
            <a:ext cx="3889440" cy="647640"/>
            <a:chOff x="3851280" y="1052640"/>
            <a:chExt cx="3889440" cy="647640"/>
          </a:xfrm>
        </p:grpSpPr>
        <p:sp>
          <p:nvSpPr>
            <p:cNvPr id="131" name=""/>
            <p:cNvSpPr/>
            <p:nvPr/>
          </p:nvSpPr>
          <p:spPr>
            <a:xfrm>
              <a:off x="3851280" y="1557360"/>
              <a:ext cx="3889440" cy="142920"/>
            </a:xfrm>
            <a:prstGeom prst="rect">
              <a:avLst/>
            </a:prstGeom>
            <a:solidFill>
              <a:srgbClr val="b1e9e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995640" y="1052640"/>
              <a:ext cx="360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Photo film to detect radi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0" y="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ff"/>
                </a:solidFill>
                <a:latin typeface="Arial"/>
              </a:rPr>
              <a:t>1901 Ernest Rutherford found three types of radiation were emitted from a               </a:t>
            </a:r>
            <a:r>
              <a:rPr b="1" lang="en-GB" sz="2000" spc="-1" strike="noStrike">
                <a:solidFill>
                  <a:srgbClr val="ff00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00ff"/>
                </a:solidFill>
                <a:latin typeface="Arial"/>
              </a:rPr>
              <a:t>radium source, by separating the beam with a magnetic f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0920" y="4005360"/>
            <a:ext cx="3671640" cy="20876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50920" y="4005360"/>
            <a:ext cx="40320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0000"/>
                </a:solidFill>
                <a:latin typeface="Arial"/>
                <a:ea typeface="Arial"/>
              </a:rPr>
              <a:t>α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 alpha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 + 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Symbol"/>
                <a:ea typeface="Symbol"/>
              </a:rPr>
              <a:t>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beta  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 - 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9999"/>
                </a:solidFill>
                <a:latin typeface="Symbol"/>
                <a:ea typeface="Symbol"/>
              </a:rPr>
              <a:t></a:t>
            </a:r>
            <a:r>
              <a:rPr b="1" lang="en-GB" sz="2400" spc="-1" strike="noStrike">
                <a:solidFill>
                  <a:srgbClr val="009999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009999"/>
                </a:solidFill>
                <a:latin typeface="Arial"/>
              </a:rPr>
              <a:t>gamma</a:t>
            </a:r>
            <a:r>
              <a:rPr b="1" lang="en-GB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9999"/>
                </a:solidFill>
                <a:latin typeface="Arial"/>
              </a:rPr>
              <a:t> no ch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P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ABC6C3-2B82-4B7B-9354-B5CDB7895CB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eig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geig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500"/>
                            </p:stCondLst>
                            <p:childTnLst>
                              <p:par>
                                <p:cTn id="189" nodeType="afterEffect" fill="hold" presetClass="entr" presetID="2" presetSubtype="1">
                                  <p:stCondLst>
                                    <p:cond delay="1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sona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97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o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2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arn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07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warn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12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warn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1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" name=""/>
          <p:cNvGraphicFramePr/>
          <p:nvPr/>
        </p:nvGraphicFramePr>
        <p:xfrm>
          <a:off x="2916360" y="1268280"/>
          <a:ext cx="3290760" cy="262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1268280"/>
                    <a:ext cx="3290760" cy="26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"/>
          <p:cNvSpPr/>
          <p:nvPr/>
        </p:nvSpPr>
        <p:spPr>
          <a:xfrm>
            <a:off x="7632720" y="2133720"/>
            <a:ext cx="151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chemical symb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5940000" y="2565360"/>
            <a:ext cx="1079640" cy="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771640" y="4941720"/>
            <a:ext cx="151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proton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3492360" y="3860280"/>
            <a:ext cx="0" cy="86364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780000" y="765000"/>
            <a:ext cx="1440" cy="64944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18900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nucleon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8400" y="243000"/>
            <a:ext cx="40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ffff"/>
                </a:solidFill>
                <a:latin typeface="Arial"/>
              </a:rPr>
              <a:t>( =  number of protons + neutrons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P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81D60B-F595-40FE-956E-E890E86F690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000"/>
                            </p:stCondLst>
                            <p:childTnLst>
                              <p:par>
                                <p:cTn id="278" nodeType="afterEffect" fill="hold" presetClass="entr" presetID="2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5" name=""/>
          <p:cNvGraphicFramePr/>
          <p:nvPr/>
        </p:nvGraphicFramePr>
        <p:xfrm>
          <a:off x="7164360" y="6858000"/>
          <a:ext cx="576360" cy="52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4360" y="6858000"/>
                    <a:ext cx="57636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"/>
          <p:cNvSpPr/>
          <p:nvPr/>
        </p:nvSpPr>
        <p:spPr>
          <a:xfrm>
            <a:off x="0" y="40464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Alpha particles are helium nuclei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8062920" y="7101000"/>
                <a:ext cx="108108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4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H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9" name=""/>
          <p:cNvSpPr/>
          <p:nvPr/>
        </p:nvSpPr>
        <p:spPr>
          <a:xfrm>
            <a:off x="0" y="2565360"/>
            <a:ext cx="687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Beta particles are high speed electrons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1197000"/>
            <a:ext cx="59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ff"/>
                </a:solidFill>
                <a:latin typeface="Arial"/>
              </a:rPr>
              <a:t>Typical speed 0.1c; energy 5 MeV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164360" y="6896520"/>
            <a:ext cx="595440" cy="1338840"/>
          </a:xfrm>
          <a:prstGeom prst="ellips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1" lang="en-GB" sz="3200" spc="-1" strike="noStrike" baseline="30000">
                <a:solidFill>
                  <a:srgbClr val="ff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8429760" y="7316640"/>
                <a:ext cx="777600" cy="77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0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 </m:t>
                    </m:r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0" y="3357720"/>
            <a:ext cx="59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ccff"/>
                </a:solidFill>
                <a:latin typeface="Arial"/>
              </a:rPr>
              <a:t>Typical speed 0.99c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436572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9900"/>
                </a:solidFill>
                <a:latin typeface="Arial"/>
              </a:rPr>
              <a:t>Gamma rays are energetic photons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6659640" y="7174080"/>
            <a:ext cx="504720" cy="909360"/>
            <a:chOff x="6659640" y="7174080"/>
            <a:chExt cx="504720" cy="909360"/>
          </a:xfrm>
        </p:grpSpPr>
        <p:sp>
          <p:nvSpPr>
            <p:cNvPr id="156" name=""/>
            <p:cNvSpPr/>
            <p:nvPr/>
          </p:nvSpPr>
          <p:spPr>
            <a:xfrm>
              <a:off x="6659640" y="7174080"/>
              <a:ext cx="504720" cy="909360"/>
            </a:xfrm>
            <a:prstGeom prst="ellipse">
              <a:avLst/>
            </a:prstGeom>
            <a:solidFill>
              <a:srgbClr val="008f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57" name=""/>
            <p:cNvGraphicFramePr/>
            <p:nvPr/>
          </p:nvGraphicFramePr>
          <p:xfrm>
            <a:off x="6728040" y="7326000"/>
            <a:ext cx="349560" cy="617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5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728040" y="7326000"/>
                      <a:ext cx="349560" cy="617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8244000" y="7174080"/>
                <a:ext cx="64764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0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0" name=""/>
          <p:cNvSpPr/>
          <p:nvPr/>
        </p:nvSpPr>
        <p:spPr>
          <a:xfrm>
            <a:off x="0" y="5013360"/>
            <a:ext cx="59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99"/>
                </a:solidFill>
                <a:latin typeface="Arial"/>
              </a:rPr>
              <a:t>speed = c</a:t>
            </a:r>
            <a:r>
              <a:rPr b="1" lang="en-GB" sz="3200" spc="-1" strike="noStrike">
                <a:solidFill>
                  <a:srgbClr val="00ff99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ff99"/>
                </a:solidFill>
                <a:latin typeface="Arial"/>
              </a:rPr>
              <a:t>;  </a:t>
            </a:r>
            <a:r>
              <a:rPr b="1" lang="el-GR" sz="2400" spc="-1" strike="noStrike">
                <a:solidFill>
                  <a:srgbClr val="00ff99"/>
                </a:solidFill>
                <a:latin typeface="Arial"/>
                <a:ea typeface="Arial"/>
              </a:rPr>
              <a:t>λ</a:t>
            </a:r>
            <a:r>
              <a:rPr b="1" lang="en-GB" sz="2400" spc="-1" strike="noStrike">
                <a:solidFill>
                  <a:srgbClr val="00ff99"/>
                </a:solidFill>
                <a:latin typeface="Arial"/>
              </a:rPr>
              <a:t> = 10</a:t>
            </a:r>
            <a:r>
              <a:rPr b="1" lang="en-GB" sz="2400" spc="-1" strike="noStrike" baseline="30000">
                <a:solidFill>
                  <a:srgbClr val="00ff99"/>
                </a:solidFill>
                <a:latin typeface="Arial"/>
              </a:rPr>
              <a:t>-11</a:t>
            </a:r>
            <a:r>
              <a:rPr b="1" lang="en-GB" sz="2400" spc="-1" strike="noStrike">
                <a:solidFill>
                  <a:srgbClr val="00ff99"/>
                </a:solidFill>
                <a:latin typeface="Arial"/>
              </a:rPr>
              <a:t> – 10</a:t>
            </a:r>
            <a:r>
              <a:rPr b="1" lang="en-GB" sz="2400" spc="-1" strike="noStrike" baseline="30000">
                <a:solidFill>
                  <a:srgbClr val="00ff99"/>
                </a:solidFill>
                <a:latin typeface="Arial"/>
              </a:rPr>
              <a:t>-13</a:t>
            </a:r>
            <a:r>
              <a:rPr b="1" lang="en-GB" sz="2400" spc="-1" strike="noStrike">
                <a:solidFill>
                  <a:srgbClr val="00ff99"/>
                </a:solidFill>
                <a:latin typeface="Arial"/>
              </a:rPr>
              <a:t> m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P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62C1EA-5E59-4964-8537-6664F88BED5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750"/>
                            </p:stCondLst>
                            <p:childTnLst>
                              <p:par>
                                <p:cTn id="303" nodeType="after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sonar.wav"/>
                                        </p:tgtEl>
                                      </p:cMediaNode>
                                    </p:audio>
                                    <p:animMotion origin="layout" path="M -3.88889E-006 3.7037E-007 L -0.00225 -0.90347 E">
                                      <p:cBhvr>
                                        <p:cTn id="304" dur="50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5" nodeType="withEffect" fill="hold" presetClass="path" presetID="64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0.01233 -0.06852 L -0.01563 -0.95972 E">
                                      <p:cBhvr>
                                        <p:cTn id="306" dur="20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animMotion origin="layout" path="M -2.22222E-006 7.40741E-007 L -0.00104 -0.67662 E">
                                      <p:cBhvr>
                                        <p:cTn id="322" dur="20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3" nodeType="withEffect" fill="hold" presetClass="path" presetID="64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0.01233 -0.06852 L -0.01563 -0.70764 E">
                                      <p:cBhvr>
                                        <p:cTn id="324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85185E-006 L -3.33333E-006 -0.43843 E">
                                      <p:cBhvr>
                                        <p:cTn id="340" dur="2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1" nodeType="withEffect" fill="hold" presetClass="path" presetID="64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0.01233 -0.06852 L -0.01181 -0.40648 E">
                                      <p:cBhvr>
                                        <p:cTn id="342" dur="200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24000" y="2276640"/>
            <a:ext cx="8572320" cy="37515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An atom becomes radioactive if its neutron/proton ratio is outside the “band of stability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All elements with N &gt; 83 (&gt;Bi) are naturally 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radioa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An unstable nucleus can emit radioactive particles in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order to reach sta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     </a:t>
            </a:r>
            <a:r>
              <a:rPr b="1" lang="en-US" sz="2400" spc="-1" strike="noStrike">
                <a:solidFill>
                  <a:srgbClr val="009900"/>
                </a:solidFill>
                <a:latin typeface="Comic Sans MS"/>
              </a:rPr>
              <a:t>– </a:t>
            </a:r>
            <a:r>
              <a:rPr b="1" lang="en-US" sz="2400" spc="-1" strike="noStrike">
                <a:solidFill>
                  <a:srgbClr val="009900"/>
                </a:solidFill>
                <a:latin typeface="Comic Sans MS"/>
              </a:rPr>
              <a:t>Beta Particle P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Comic Sans MS"/>
              </a:rPr>
              <a:t>     – </a:t>
            </a:r>
            <a:r>
              <a:rPr b="1" lang="en-US" sz="2400" spc="-1" strike="noStrike">
                <a:solidFill>
                  <a:srgbClr val="009900"/>
                </a:solidFill>
                <a:latin typeface="Comic Sans MS"/>
              </a:rPr>
              <a:t>Alpha Particle P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Comic Sans MS"/>
              </a:rPr>
              <a:t>     – </a:t>
            </a:r>
            <a:r>
              <a:rPr b="1" lang="en-US" sz="2400" spc="-1" strike="noStrike">
                <a:solidFill>
                  <a:srgbClr val="009900"/>
                </a:solidFill>
                <a:latin typeface="Comic Sans MS"/>
              </a:rPr>
              <a:t>Gamma Ray Emi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268360" y="260280"/>
            <a:ext cx="4537080" cy="1617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Comic Sans MS"/>
              </a:rPr>
              <a:t>Radioactive atoms hav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too many neu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or too many prot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or are just too bi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P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3CF8AF-2ED5-4112-9A37-0FD94E8334A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"/>
          <p:cNvGrpSpPr/>
          <p:nvPr/>
        </p:nvGrpSpPr>
        <p:grpSpPr>
          <a:xfrm>
            <a:off x="2050920" y="1052640"/>
            <a:ext cx="5471280" cy="4083840"/>
            <a:chOff x="2050920" y="1052640"/>
            <a:chExt cx="5471280" cy="4083840"/>
          </a:xfrm>
        </p:grpSpPr>
        <p:grpSp>
          <p:nvGrpSpPr>
            <p:cNvPr id="164" name=""/>
            <p:cNvGrpSpPr/>
            <p:nvPr/>
          </p:nvGrpSpPr>
          <p:grpSpPr>
            <a:xfrm>
              <a:off x="2050920" y="1052640"/>
              <a:ext cx="5471280" cy="4083840"/>
              <a:chOff x="2050920" y="1052640"/>
              <a:chExt cx="5471280" cy="4083840"/>
            </a:xfrm>
          </p:grpSpPr>
          <p:grpSp>
            <p:nvGrpSpPr>
              <p:cNvPr id="165" name=""/>
              <p:cNvGrpSpPr/>
              <p:nvPr/>
            </p:nvGrpSpPr>
            <p:grpSpPr>
              <a:xfrm>
                <a:off x="2050920" y="1052640"/>
                <a:ext cx="5471280" cy="4083840"/>
                <a:chOff x="2050920" y="1052640"/>
                <a:chExt cx="5471280" cy="4083840"/>
              </a:xfrm>
            </p:grpSpPr>
            <p:graphicFrame>
              <p:nvGraphicFramePr>
                <p:cNvPr id="166" name=""/>
                <p:cNvGraphicFramePr/>
                <p:nvPr/>
              </p:nvGraphicFramePr>
              <p:xfrm>
                <a:off x="2050920" y="1052640"/>
                <a:ext cx="5471280" cy="408384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167" name="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2050920" y="1052640"/>
                          <a:ext cx="5471280" cy="408384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168" name=""/>
                <p:cNvSpPr/>
                <p:nvPr/>
              </p:nvSpPr>
              <p:spPr>
                <a:xfrm>
                  <a:off x="4592160" y="4771080"/>
                  <a:ext cx="2121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0000ff"/>
                      </a:solidFill>
                      <a:latin typeface="Arial"/>
                    </a:rPr>
                    <a:t>proton number Z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9" name=""/>
              <p:cNvSpPr/>
              <p:nvPr/>
            </p:nvSpPr>
            <p:spPr>
              <a:xfrm rot="16200000">
                <a:off x="1045440" y="2853360"/>
                <a:ext cx="302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ff"/>
                    </a:solidFill>
                    <a:latin typeface="Arial"/>
                  </a:rPr>
                  <a:t>Neutron  number N = A-Z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0" name=""/>
              <p:cNvGrpSpPr/>
              <p:nvPr/>
            </p:nvGrpSpPr>
            <p:grpSpPr>
              <a:xfrm>
                <a:off x="3270960" y="1143000"/>
                <a:ext cx="3638160" cy="3321720"/>
                <a:chOff x="3270960" y="1143000"/>
                <a:chExt cx="3638160" cy="3321720"/>
              </a:xfrm>
            </p:grpSpPr>
            <p:sp>
              <p:nvSpPr>
                <p:cNvPr id="171" name=""/>
                <p:cNvSpPr/>
                <p:nvPr/>
              </p:nvSpPr>
              <p:spPr>
                <a:xfrm flipV="1">
                  <a:off x="3270960" y="1467000"/>
                  <a:ext cx="2962080" cy="2997720"/>
                </a:xfrm>
                <a:prstGeom prst="line">
                  <a:avLst/>
                </a:prstGeom>
                <a:ln w="5724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6201720" y="1143000"/>
                  <a:ext cx="7074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009900"/>
                      </a:solidFill>
                      <a:latin typeface="Arial"/>
                    </a:rPr>
                    <a:t>N=Z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"/>
              <p:cNvSpPr/>
              <p:nvPr/>
            </p:nvSpPr>
            <p:spPr>
              <a:xfrm>
                <a:off x="3990960" y="4601880"/>
                <a:ext cx="533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ff0000"/>
                    </a:solidFill>
                    <a:latin typeface="Arial"/>
                  </a:rPr>
                  <a:t>4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3461040" y="4601880"/>
                <a:ext cx="5331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ff0000"/>
                    </a:solidFill>
                    <a:latin typeface="Arial"/>
                  </a:rPr>
                  <a:t>2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4520880" y="4601880"/>
                <a:ext cx="533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ff0000"/>
                    </a:solidFill>
                    <a:latin typeface="Arial"/>
                  </a:rPr>
                  <a:t>6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4964400" y="4601880"/>
                <a:ext cx="531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ff0000"/>
                    </a:solidFill>
                    <a:latin typeface="Arial"/>
                  </a:rPr>
                  <a:t>8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5406120" y="4601880"/>
                <a:ext cx="61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ff0000"/>
                    </a:solidFill>
                    <a:latin typeface="Arial"/>
                  </a:rPr>
                  <a:t>10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"/>
            <p:cNvSpPr/>
            <p:nvPr/>
          </p:nvSpPr>
          <p:spPr>
            <a:xfrm>
              <a:off x="2554200" y="3356280"/>
              <a:ext cx="496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0000"/>
                  </a:solidFill>
                  <a:latin typeface="Arial"/>
                </a:rPr>
                <a:t>4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554200" y="2853000"/>
              <a:ext cx="496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0000"/>
                  </a:solidFill>
                  <a:latin typeface="Arial"/>
                </a:rPr>
                <a:t>6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554200" y="2421000"/>
              <a:ext cx="496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0000"/>
                  </a:solidFill>
                  <a:latin typeface="Arial"/>
                </a:rPr>
                <a:t>8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482560" y="1484640"/>
              <a:ext cx="579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0000"/>
                  </a:solidFill>
                  <a:latin typeface="Arial"/>
                </a:rPr>
                <a:t>12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554200" y="3861000"/>
              <a:ext cx="496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0000"/>
                  </a:solidFill>
                  <a:latin typeface="Arial"/>
                </a:rPr>
                <a:t>2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411280" y="1916280"/>
              <a:ext cx="662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0000"/>
                  </a:solidFill>
                  <a:latin typeface="Arial"/>
                </a:rPr>
                <a:t>1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-2979000" y="-438840"/>
            <a:ext cx="9080640" cy="7912440"/>
            <a:chOff x="-2979000" y="-438840"/>
            <a:chExt cx="9080640" cy="7912440"/>
          </a:xfrm>
        </p:grpSpPr>
        <p:sp>
          <p:nvSpPr>
            <p:cNvPr id="185" name=""/>
            <p:cNvSpPr/>
            <p:nvPr/>
          </p:nvSpPr>
          <p:spPr>
            <a:xfrm rot="3245400">
              <a:off x="-173520" y="-831960"/>
              <a:ext cx="3470040" cy="869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851" y="788"/>
                  </a:moveTo>
                  <a:arcTo wR="10800" hR="10800" stAng="-4078267" swAng="3028071"/>
                  <a:lnTo>
                    <a:pt x="10800" y="10800"/>
                  </a:lnTo>
                  <a:close/>
                </a:path>
                <a:path fill="none" w="21600" h="21600">
                  <a:moveTo>
                    <a:pt x="14851" y="788"/>
                  </a:moveTo>
                  <a:arcTo wR="10800" hR="10800" stAng="-4078267" swAng="3028071"/>
                </a:path>
              </a:pathLst>
            </a:custGeom>
            <a:noFill/>
            <a:ln w="7632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3313440" y="4086000"/>
              <a:ext cx="279000" cy="349200"/>
            </a:xfrm>
            <a:prstGeom prst="line">
              <a:avLst/>
            </a:prstGeom>
            <a:ln w="7632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250920" y="189000"/>
            <a:ext cx="85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ff"/>
                </a:solidFill>
                <a:latin typeface="Arial"/>
              </a:rPr>
              <a:t>Line of stable nuclides – stable nuclides lie on or very close to this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843280" y="765000"/>
            <a:ext cx="1800000" cy="0"/>
          </a:xfrm>
          <a:prstGeom prst="line">
            <a:avLst/>
          </a:prstGeom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516720" y="3357720"/>
            <a:ext cx="2340000" cy="1008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The stability line follows N = Z line up to Z = 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8400" y="5376960"/>
            <a:ext cx="8893080" cy="703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Unstable nuclei lie either side of the stability line; the exact position determines the mode of dec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P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0495BB-F9F8-4FEA-949E-F3A1B69C5AE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9" dur="3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500"/>
                            </p:stCondLst>
                            <p:childTnLst>
                              <p:par>
                                <p:cTn id="43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42" nodeType="afterEffect" fill="hold" presetClass="entr" presetID="18" presetSubtype="3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pace%20take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44" dur="3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o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o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58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" name=""/>
          <p:cNvGrpSpPr/>
          <p:nvPr/>
        </p:nvGrpSpPr>
        <p:grpSpPr>
          <a:xfrm>
            <a:off x="-3165840" y="-149400"/>
            <a:ext cx="10500480" cy="7911720"/>
            <a:chOff x="-3165840" y="-149400"/>
            <a:chExt cx="10500480" cy="7911720"/>
          </a:xfrm>
        </p:grpSpPr>
        <p:grpSp>
          <p:nvGrpSpPr>
            <p:cNvPr id="192" name=""/>
            <p:cNvGrpSpPr/>
            <p:nvPr/>
          </p:nvGrpSpPr>
          <p:grpSpPr>
            <a:xfrm>
              <a:off x="-3165840" y="-149400"/>
              <a:ext cx="10500480" cy="7911720"/>
              <a:chOff x="-3165840" y="-149400"/>
              <a:chExt cx="10500480" cy="7911720"/>
            </a:xfrm>
          </p:grpSpPr>
          <p:grpSp>
            <p:nvGrpSpPr>
              <p:cNvPr id="193" name=""/>
              <p:cNvGrpSpPr/>
              <p:nvPr/>
            </p:nvGrpSpPr>
            <p:grpSpPr>
              <a:xfrm>
                <a:off x="1863360" y="1341360"/>
                <a:ext cx="5471280" cy="4083840"/>
                <a:chOff x="1863360" y="1341360"/>
                <a:chExt cx="5471280" cy="4083840"/>
              </a:xfrm>
            </p:grpSpPr>
            <p:grpSp>
              <p:nvGrpSpPr>
                <p:cNvPr id="194" name=""/>
                <p:cNvGrpSpPr/>
                <p:nvPr/>
              </p:nvGrpSpPr>
              <p:grpSpPr>
                <a:xfrm>
                  <a:off x="1863360" y="1341360"/>
                  <a:ext cx="5471280" cy="4083840"/>
                  <a:chOff x="1863360" y="1341360"/>
                  <a:chExt cx="5471280" cy="4083840"/>
                </a:xfrm>
              </p:grpSpPr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1863360" y="1341360"/>
                    <a:ext cx="5471280" cy="4083840"/>
                    <a:chOff x="1863360" y="1341360"/>
                    <a:chExt cx="5471280" cy="4083840"/>
                  </a:xfrm>
                </p:grpSpPr>
                <p:graphicFrame>
                  <p:nvGraphicFramePr>
                    <p:cNvPr id="196" name=""/>
                    <p:cNvGraphicFramePr/>
                    <p:nvPr/>
                  </p:nvGraphicFramePr>
                  <p:xfrm>
                    <a:off x="1863360" y="1341360"/>
                    <a:ext cx="5471280" cy="4083840"/>
                  </p:xfrm>
                  <a:graphic>
                    <a:graphicData uri="http://schemas.openxmlformats.org/presentationml/2006/ole">
                      <p:oleObj r:id="rId1" spid="">
                        <p:embed/>
                        <p:pic>
                          <p:nvPicPr>
                            <p:cNvPr id="197" name="" descr=""/>
                            <p:cNvPicPr/>
                            <p:nvPr/>
                          </p:nvPicPr>
                          <p:blipFill>
                            <a:blip r:embed="rId2"/>
                            <a:stretch/>
                          </p:blipFill>
                          <p:spPr>
                            <a:xfrm>
                              <a:off x="1863360" y="1341360"/>
                              <a:ext cx="5471280" cy="4083840"/>
                            </a:xfrm>
                            <a:prstGeom prst="rect">
                              <a:avLst/>
                            </a:prstGeom>
                            <a:ln w="0">
                              <a:noFill/>
                            </a:ln>
                          </p:spPr>
                        </p:pic>
                      </p:oleObj>
                    </a:graphicData>
                  </a:graphic>
                </p:graphicFrame>
                <p:sp>
                  <p:nvSpPr>
                    <p:cNvPr id="198" name=""/>
                    <p:cNvSpPr/>
                    <p:nvPr/>
                  </p:nvSpPr>
                  <p:spPr>
                    <a:xfrm>
                      <a:off x="4404600" y="5059800"/>
                      <a:ext cx="21214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proton number 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99" name=""/>
                  <p:cNvSpPr/>
                  <p:nvPr/>
                </p:nvSpPr>
                <p:spPr>
                  <a:xfrm rot="16200000">
                    <a:off x="857880" y="3142080"/>
                    <a:ext cx="302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400" spc="-1" strike="noStrike">
                        <a:solidFill>
                          <a:srgbClr val="0000ff"/>
                        </a:solidFill>
                        <a:latin typeface="Arial"/>
                      </a:rPr>
                      <a:t>Neutron  number N = A-Z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00" name=""/>
                  <p:cNvGrpSpPr/>
                  <p:nvPr/>
                </p:nvGrpSpPr>
                <p:grpSpPr>
                  <a:xfrm>
                    <a:off x="3083400" y="1431720"/>
                    <a:ext cx="3638160" cy="3321720"/>
                    <a:chOff x="3083400" y="1431720"/>
                    <a:chExt cx="3638160" cy="3321720"/>
                  </a:xfrm>
                </p:grpSpPr>
                <p:sp>
                  <p:nvSpPr>
                    <p:cNvPr id="201" name=""/>
                    <p:cNvSpPr/>
                    <p:nvPr/>
                  </p:nvSpPr>
                  <p:spPr>
                    <a:xfrm flipV="1">
                      <a:off x="3083400" y="1755720"/>
                      <a:ext cx="2962080" cy="2997720"/>
                    </a:xfrm>
                    <a:prstGeom prst="line">
                      <a:avLst/>
                    </a:prstGeom>
                    <a:ln w="57240">
                      <a:solidFill>
                        <a:srgbClr val="00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2" name=""/>
                    <p:cNvSpPr/>
                    <p:nvPr/>
                  </p:nvSpPr>
                  <p:spPr>
                    <a:xfrm>
                      <a:off x="6014160" y="1431720"/>
                      <a:ext cx="70740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N=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03" name=""/>
                  <p:cNvSpPr/>
                  <p:nvPr/>
                </p:nvSpPr>
                <p:spPr>
                  <a:xfrm>
                    <a:off x="3803400" y="4890600"/>
                    <a:ext cx="53352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400" spc="-1" strike="noStrike">
                        <a:solidFill>
                          <a:srgbClr val="ff0000"/>
                        </a:solidFill>
                        <a:latin typeface="Arial"/>
                      </a:rPr>
                      <a:t>40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"/>
                  <p:cNvSpPr/>
                  <p:nvPr/>
                </p:nvSpPr>
                <p:spPr>
                  <a:xfrm>
                    <a:off x="3273480" y="4890600"/>
                    <a:ext cx="53316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400" spc="-1" strike="noStrike">
                        <a:solidFill>
                          <a:srgbClr val="ff0000"/>
                        </a:solidFill>
                        <a:latin typeface="Arial"/>
                      </a:rPr>
                      <a:t>20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>
                    <a:off x="4333320" y="4890600"/>
                    <a:ext cx="53352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400" spc="-1" strike="noStrike">
                        <a:solidFill>
                          <a:srgbClr val="ff0000"/>
                        </a:solidFill>
                        <a:latin typeface="Arial"/>
                      </a:rPr>
                      <a:t>60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" name=""/>
                  <p:cNvSpPr/>
                  <p:nvPr/>
                </p:nvSpPr>
                <p:spPr>
                  <a:xfrm>
                    <a:off x="4776840" y="4890600"/>
                    <a:ext cx="53136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400" spc="-1" strike="noStrike">
                        <a:solidFill>
                          <a:srgbClr val="ff0000"/>
                        </a:solidFill>
                        <a:latin typeface="Arial"/>
                      </a:rPr>
                      <a:t>80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" name=""/>
                  <p:cNvSpPr/>
                  <p:nvPr/>
                </p:nvSpPr>
                <p:spPr>
                  <a:xfrm>
                    <a:off x="5218560" y="4890600"/>
                    <a:ext cx="61956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400" spc="-1" strike="noStrike">
                        <a:solidFill>
                          <a:srgbClr val="ff0000"/>
                        </a:solidFill>
                        <a:latin typeface="Arial"/>
                      </a:rPr>
                      <a:t>100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08" name=""/>
                <p:cNvSpPr/>
                <p:nvPr/>
              </p:nvSpPr>
              <p:spPr>
                <a:xfrm>
                  <a:off x="2366640" y="3645000"/>
                  <a:ext cx="4968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ff0000"/>
                      </a:solidFill>
                      <a:latin typeface="Arial"/>
                    </a:rPr>
                    <a:t>40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2366640" y="3141720"/>
                  <a:ext cx="4968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ff0000"/>
                      </a:solidFill>
                      <a:latin typeface="Arial"/>
                    </a:rPr>
                    <a:t>60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2366640" y="2709720"/>
                  <a:ext cx="4968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ff0000"/>
                      </a:solidFill>
                      <a:latin typeface="Arial"/>
                    </a:rPr>
                    <a:t>80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2295000" y="1773360"/>
                  <a:ext cx="5796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ff0000"/>
                      </a:solidFill>
                      <a:latin typeface="Arial"/>
                    </a:rPr>
                    <a:t>120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2366640" y="4149720"/>
                  <a:ext cx="4968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ff0000"/>
                      </a:solidFill>
                      <a:latin typeface="Arial"/>
                    </a:rPr>
                    <a:t>20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2223720" y="2205000"/>
                  <a:ext cx="6620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ff0000"/>
                      </a:solidFill>
                      <a:latin typeface="Arial"/>
                    </a:rPr>
                    <a:t>100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4" name=""/>
              <p:cNvGrpSpPr/>
              <p:nvPr/>
            </p:nvGrpSpPr>
            <p:grpSpPr>
              <a:xfrm>
                <a:off x="-3165840" y="-149400"/>
                <a:ext cx="9079560" cy="7911720"/>
                <a:chOff x="-3165840" y="-149400"/>
                <a:chExt cx="9079560" cy="7911720"/>
              </a:xfrm>
            </p:grpSpPr>
            <p:sp>
              <p:nvSpPr>
                <p:cNvPr id="215" name=""/>
                <p:cNvSpPr/>
                <p:nvPr/>
              </p:nvSpPr>
              <p:spPr>
                <a:xfrm rot="3245400">
                  <a:off x="-360720" y="-542160"/>
                  <a:ext cx="3470040" cy="8697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4851" y="788"/>
                      </a:moveTo>
                      <a:arcTo wR="10800" hR="10800" stAng="-4078267" swAng="302807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4851" y="788"/>
                      </a:moveTo>
                      <a:arcTo wR="10800" hR="10800" stAng="-4078267" swAng="3028071"/>
                    </a:path>
                  </a:pathLst>
                </a:custGeom>
                <a:noFill/>
                <a:ln w="7632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 flipV="1">
                  <a:off x="3125880" y="4374720"/>
                  <a:ext cx="279000" cy="349200"/>
                </a:xfrm>
                <a:prstGeom prst="line">
                  <a:avLst/>
                </a:prstGeom>
                <a:ln w="7632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17" name=""/>
            <p:cNvSpPr/>
            <p:nvPr/>
          </p:nvSpPr>
          <p:spPr>
            <a:xfrm>
              <a:off x="3016080" y="1414080"/>
              <a:ext cx="1728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990099"/>
                  </a:solidFill>
                  <a:latin typeface="Arial"/>
                </a:rPr>
                <a:t>stability li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68440" y="1701720"/>
              <a:ext cx="720360" cy="503280"/>
            </a:xfrm>
            <a:prstGeom prst="line">
              <a:avLst/>
            </a:prstGeom>
            <a:ln w="38160">
              <a:solidFill>
                <a:srgbClr val="99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956520" y="84240"/>
            <a:ext cx="605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66ff"/>
                </a:solidFill>
                <a:latin typeface="Arial"/>
              </a:rPr>
              <a:t>Alpha decay only occurs for Z &gt; 8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019840" y="1974960"/>
            <a:ext cx="863280" cy="2735280"/>
          </a:xfrm>
          <a:prstGeom prst="rect">
            <a:avLst/>
          </a:prstGeom>
          <a:solidFill>
            <a:srgbClr val="ff66ff">
              <a:alpha val="25000"/>
            </a:srgbClr>
          </a:solidFill>
          <a:ln w="93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494320" y="3357720"/>
            <a:ext cx="358920" cy="459720"/>
          </a:xfrm>
          <a:prstGeom prst="rect">
            <a:avLst/>
          </a:prstGeom>
          <a:solidFill>
            <a:srgbClr val="ff66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0000"/>
                </a:solidFill>
                <a:latin typeface="Arial"/>
                <a:ea typeface="Arial"/>
              </a:rPr>
              <a:t>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5219280" y="3716280"/>
            <a:ext cx="289080" cy="360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P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7C7EC7-B3ED-420C-8745-7BD0A295DC6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ona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65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66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67" dur="3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9T16:33:58Z</dcterms:created>
  <dc:creator>John</dc:creator>
  <dc:description/>
  <dc:language>en-US</dc:language>
  <cp:lastModifiedBy>Janet </cp:lastModifiedBy>
  <dcterms:modified xsi:type="dcterms:W3CDTF">2005-05-21T01:03:01Z</dcterms:modified>
  <cp:revision>45</cp:revision>
  <dc:subject/>
  <dc:title>Slide 1</dc:title>
</cp:coreProperties>
</file>